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38098413"/>
  <p:notesSz cx="31870650" cy="35471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F2E-63F4-4AD2-A870-C5D17856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2914632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2946760"/>
            <a:ext cx="2914632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AFA-12B1-4FF0-80B8-4DCB9A98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100628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294676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294676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1E2-DC51-4C25-872B-E522AF01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93848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1006280"/>
            <a:ext cx="93848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1006280"/>
            <a:ext cx="93848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2946760"/>
            <a:ext cx="93848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2946760"/>
            <a:ext cx="93848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2946760"/>
            <a:ext cx="93848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685-1244-4C86-BDE2-FB148281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1006280"/>
            <a:ext cx="2914632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3B2-D67F-44F0-BD80-7FCCFDF1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29146320" cy="22860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D0F-4483-452B-AD72-53A83DA5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14223240" cy="22860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1006280"/>
            <a:ext cx="14223240" cy="22860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E5C-A163-4F2A-8E37-0FF0611F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265-4E1E-425F-9745-FFBE72B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385800"/>
            <a:ext cx="2914632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BE2-A761-4B29-A1BB-E3C3C462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1006280"/>
            <a:ext cx="14223240" cy="22860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294676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A1E-CCCD-41DD-B4CA-E3652E5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14223240" cy="22860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100628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294676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9F6-DECD-469A-9CCD-1EBFEAD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100628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1006280"/>
            <a:ext cx="1422324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2946760"/>
            <a:ext cx="29146320" cy="10904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062-3D27-4A60-9164-EE9C003E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385800"/>
            <a:ext cx="29146320" cy="6350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1006280"/>
            <a:ext cx="29146320" cy="22860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 fontScale="98000"/>
          </a:bodyPr>
          <a:p>
            <a:pPr marL="1680120" indent="-168012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40320" indent="-140004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00520" indent="-111996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0" indent="-111996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4" marL="10081080" indent="-111996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5" marL="10081080" indent="-111996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6" marL="10081080" indent="-111996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34713720"/>
            <a:ext cx="7143840" cy="25401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34713720"/>
            <a:ext cx="10858320" cy="25401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ct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34713720"/>
            <a:ext cx="7143480" cy="25401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0"/>
                <a:tab algn="l" pos="9144000"/>
              </a:tabLst>
            </a:pPr>
            <a:fld id="{1FA01EEE-0006-4CB9-BD57-E3FDB3F123E4}" type="slidenum"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587600"/>
            <a:ext cx="303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82720" y="1333440"/>
            <a:ext cx="5715000" cy="317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023320" y="1905120"/>
            <a:ext cx="18745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AÇÃO DA POROSIDADE DE REVESTIMENTOS 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ZINCO SOBRE O AÇ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4680" y="4724280"/>
            <a:ext cx="30861000" cy="4400640"/>
          </a:xfrm>
          <a:prstGeom prst="rect">
            <a:avLst/>
          </a:pr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Danusa  Abramchu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mic Sans MS"/>
              </a:rPr>
              <a:t>Orientador: Haroldo de Araújo Po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versidade Federal do Paraná, Departamento de Tecnologia Química, Laboratório de Eletroquímica Aplicada, Curitiba, PR,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danusa@engquim.ufpr.b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5720" y="16764120"/>
            <a:ext cx="15114600" cy="27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odo de trabal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Área do eletrodo de Zinco: 0,08cm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Área do eletrodo de Aço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o 1020)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: 0,24 cm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-eletrodo: p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odo de referência: Ag/AgCl (KCl saturad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ólito: NaHCO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 eletroquímica: convencional de três eletr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ostato: Voltalab 40 (modelo PGZ 3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VoltaMater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anho para deposi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loreto de Zinco                     55 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loreto de potássio                175 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Bórico                           30 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ditivo zylite HT MB             30 ml/L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brilhantador zylite MT           2 m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Anál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écnica utilizada neste estudo, Dissolução Anódica Voltamétrica (DAV), está baseada na análise da reação de dissolução e passivação d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trodo maciço de zinco (Q 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e aquela envolvida na passivação do eletrodepósito de zinco sobre aço (Q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para cada condição. A porosidade pode, então, ser determinada pela seguinte rel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[1 - (Q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/ Q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buClr>
                <a:srgbClr val="000000"/>
              </a:buClr>
              <a:buFont typeface="Symbol" charset="2"/>
              <a:buChar char=""/>
              <a:tabLst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valores de Q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Q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am obtidos através de dissolução numa condição em que o substrato de aço manteve-se inerte na faixa de potencial de passivação do eletrodepósito de zin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nálise da concentração ideal da solução de passiva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1 – Voltametrias obtidas em uma velocidade de varredura igual a 20 m/s em diferentes      concentrações 0,05M; 0,1M ; 0,5M ,respectivamente.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85000" y="9728280"/>
            <a:ext cx="13990680" cy="18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Estudo da velocidade de varredura ideal para o processo de passiv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Times New Roman"/>
              <a:buChar char="•"/>
              <a:tabLst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gura-2.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nsidades de carga de passivação do  zinco obtidas para diferentes velocidades de varredura ( 10 m/s, 20 m/s, 30 m/s, 50 m/s) na solução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HCO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M.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studo do comportamento eletroquímico do aço e do zin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- 3.Voltametria do eletrodo de zinco, solução de bicarbonato de sódio (NaHCO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0.5 M, velocidade de varredura de 50 mV/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- 4.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oltametria do eletrodo de aço, solução de bicarbonato de sódio (NaHCO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0.5 M, velocidade de varredura de 50 mV/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) Determinação da poros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73880" y="28244880"/>
            <a:ext cx="14401800" cy="90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– 5. Variação da porosidade com a carga de deposição do zinco,substrato: aç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rva é definida pela seguinte eq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dida da porosidade de revestimentos de um metal menos nobre que o substrato, como o zinco sobre aço, pode ser obtida através da aplicação da técnica de comparação entre a medida da densidade de carga envolvida no processo de passivação do revestimento e aquela do eletrodo maciço do material do revestimento. A técnica também informa sobre a possibilidade de ocorrência de processos de amplificação de rugosidade. A confirmação deste resultado, entretanto, necessita de uma análise da estrutura morfológica dos revestimento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dec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autores agradecem ao apoio do CNPq,  através da concessão de bolsa de iniciação científica,ao Programa de Recursos Humanos da ANP e aos integrantes do Grupo de Eletroquímica Aplicada e da mesma forma a Universidade Federal do Paran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incagem" descr=""/>
          <p:cNvPicPr/>
          <p:nvPr/>
        </p:nvPicPr>
        <p:blipFill>
          <a:blip r:embed="rId3"/>
          <a:srcRect l="1310" t="0" r="0" b="0"/>
          <a:stretch/>
        </p:blipFill>
        <p:spPr>
          <a:xfrm>
            <a:off x="1676520" y="9677520"/>
            <a:ext cx="4949640" cy="6781680"/>
          </a:xfrm>
          <a:prstGeom prst="rect">
            <a:avLst/>
          </a:prstGeom>
          <a:ln w="0">
            <a:noFill/>
          </a:ln>
        </p:spPr>
      </p:pic>
      <p:pic>
        <p:nvPicPr>
          <p:cNvPr id="49" name="1a" descr=""/>
          <p:cNvPicPr/>
          <p:nvPr/>
        </p:nvPicPr>
        <p:blipFill>
          <a:blip r:embed="rId4"/>
          <a:stretch/>
        </p:blipFill>
        <p:spPr>
          <a:xfrm>
            <a:off x="2332080" y="31470480"/>
            <a:ext cx="425124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1b" descr=""/>
          <p:cNvPicPr/>
          <p:nvPr/>
        </p:nvPicPr>
        <p:blipFill>
          <a:blip r:embed="rId5"/>
          <a:stretch/>
        </p:blipFill>
        <p:spPr>
          <a:xfrm>
            <a:off x="7132680" y="31470480"/>
            <a:ext cx="443052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1c" descr=""/>
          <p:cNvPicPr/>
          <p:nvPr/>
        </p:nvPicPr>
        <p:blipFill>
          <a:blip r:embed="rId6"/>
          <a:stretch/>
        </p:blipFill>
        <p:spPr>
          <a:xfrm>
            <a:off x="12069720" y="31470480"/>
            <a:ext cx="4545000" cy="3884760"/>
          </a:xfrm>
          <a:prstGeom prst="rect">
            <a:avLst/>
          </a:prstGeom>
          <a:ln w="0">
            <a:noFill/>
          </a:ln>
        </p:spPr>
      </p:pic>
      <p:pic>
        <p:nvPicPr>
          <p:cNvPr id="52" name="2" descr=""/>
          <p:cNvPicPr/>
          <p:nvPr/>
        </p:nvPicPr>
        <p:blipFill>
          <a:blip r:embed="rId7"/>
          <a:stretch/>
        </p:blipFill>
        <p:spPr>
          <a:xfrm>
            <a:off x="23523480" y="10337760"/>
            <a:ext cx="4587840" cy="3940200"/>
          </a:xfrm>
          <a:prstGeom prst="rect">
            <a:avLst/>
          </a:prstGeom>
          <a:ln w="0">
            <a:noFill/>
          </a:ln>
        </p:spPr>
      </p:pic>
      <p:pic>
        <p:nvPicPr>
          <p:cNvPr id="53" name="CNPq" descr=""/>
          <p:cNvPicPr/>
          <p:nvPr/>
        </p:nvPicPr>
        <p:blipFill>
          <a:blip r:embed="rId8"/>
          <a:stretch/>
        </p:blipFill>
        <p:spPr>
          <a:xfrm>
            <a:off x="26677800" y="1219320"/>
            <a:ext cx="58723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467480" y="9469440"/>
            <a:ext cx="9479160" cy="76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pósito de zinco em peças de aço é uma das mais importantes técnicas de proteção deste material quando exposto a condições corrosivas, o que causou uma grande expansão do processo de eletrodeposição de zinco. A indústria automotiva adotou, recentemente, a utilização de chapas de aço pré zincadas na fabricação de automóveis, resultando num sensível aumento da proteção contra corro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dos problemas no processo de deposição de zinco ácido é o elevado nível de tensões internas que produzem trincas no revestimento. Estas trincas atuam como poros comprometendo a proteção catódica natural que o zinco promove em relação ao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 objetivo deste trabalho foi o de melhorar a compreensão sobre a influência de parâmetros de controle do processo de eletrodeposição de zinco ácido sobre aço através da avaliação da porosidade dos revest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6.1" descr=""/>
          <p:cNvPicPr/>
          <p:nvPr/>
        </p:nvPicPr>
        <p:blipFill>
          <a:blip r:embed="rId9"/>
          <a:stretch/>
        </p:blipFill>
        <p:spPr>
          <a:xfrm>
            <a:off x="23385600" y="24130080"/>
            <a:ext cx="5075280" cy="39402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0497680" y="16509960"/>
            <a:ext cx="10846080" cy="4667400"/>
            <a:chOff x="20497680" y="16509960"/>
            <a:chExt cx="10846080" cy="4667400"/>
          </a:xfrm>
        </p:grpSpPr>
        <p:sp>
          <p:nvSpPr>
            <p:cNvPr id="57" name=""/>
            <p:cNvSpPr/>
            <p:nvPr/>
          </p:nvSpPr>
          <p:spPr>
            <a:xfrm>
              <a:off x="28246320" y="20682000"/>
              <a:ext cx="2820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gura -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280760" y="20701080"/>
              <a:ext cx="419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gura -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4.1" descr=""/>
            <p:cNvPicPr/>
            <p:nvPr/>
          </p:nvPicPr>
          <p:blipFill>
            <a:blip r:embed="rId10"/>
            <a:stretch/>
          </p:blipFill>
          <p:spPr>
            <a:xfrm>
              <a:off x="20497680" y="16509960"/>
              <a:ext cx="467388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5" descr=""/>
            <p:cNvPicPr/>
            <p:nvPr/>
          </p:nvPicPr>
          <p:blipFill>
            <a:blip r:embed="rId11"/>
            <a:stretch/>
          </p:blipFill>
          <p:spPr>
            <a:xfrm>
              <a:off x="26669880" y="16509960"/>
              <a:ext cx="4673880" cy="4011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174200" y="29870280"/>
                <a:ext cx="65278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73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5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7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7:12:06Z</dcterms:created>
  <dc:creator>MATERIAIS</dc:creator>
  <dc:description/>
  <dc:language>en-US</dc:language>
  <cp:lastModifiedBy>Alunos GEA</cp:lastModifiedBy>
  <dcterms:modified xsi:type="dcterms:W3CDTF">2002-12-12T16:55:57Z</dcterms:modified>
  <cp:revision>88</cp:revision>
  <dc:subject/>
  <dc:title>Apresentação do PowerPoint</dc:title>
</cp:coreProperties>
</file>