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4290000" cy="43434000"/>
  <p:notesSz cx="31870650" cy="40511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970-41C4-427D-AE00-AC13A187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1840" y="12547440"/>
            <a:ext cx="2914632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1840" y="26159400"/>
            <a:ext cx="2914632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2AD-550D-440A-9B72-B684C6D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1840" y="1254744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06800" y="1254744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1840" y="2615940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506800" y="2615940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D34-FA16-40EA-B1C3-A7DA72AC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1840" y="12547440"/>
            <a:ext cx="93848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426480" y="12547440"/>
            <a:ext cx="93848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80760" y="12547440"/>
            <a:ext cx="93848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1840" y="26159400"/>
            <a:ext cx="93848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426480" y="26159400"/>
            <a:ext cx="93848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80760" y="26159400"/>
            <a:ext cx="93848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A20-9557-40FB-99D6-4A72702C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1840" y="12547440"/>
            <a:ext cx="29146320" cy="260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E79-87AD-4B70-9257-D8BF9AE1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1840" y="12547440"/>
            <a:ext cx="29146320" cy="260604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D200-C937-49FB-B974-054E6412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1840" y="12547440"/>
            <a:ext cx="14223240" cy="260604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506800" y="12547440"/>
            <a:ext cx="14223240" cy="260604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7F8-62E9-475F-9D31-8294F707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451-CF1C-4118-8720-4815D5F1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1840" y="3860280"/>
            <a:ext cx="29146320" cy="335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150-BFD1-4712-B332-FB0A819A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1840" y="1254744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506800" y="12547440"/>
            <a:ext cx="14223240" cy="260604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1840" y="2615940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B36-C278-4956-9EBC-3F60252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1840" y="12547440"/>
            <a:ext cx="14223240" cy="260604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506800" y="1254744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506800" y="2615940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1B0-C9C4-4D94-B0C3-7F76116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1840" y="1254744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506800" y="12547440"/>
            <a:ext cx="1422324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1840" y="26159400"/>
            <a:ext cx="29146320" cy="124308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indent="0">
              <a:spcBef>
                <a:spcPts val="4000"/>
              </a:spcBef>
              <a:buNone/>
              <a:tabLst>
                <a:tab algn="l" pos="4572000"/>
                <a:tab algn="l" pos="9144000"/>
              </a:tabLst>
            </a:pP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B33-9CB3-473B-B356-915F41D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840" y="3860280"/>
            <a:ext cx="29146320" cy="7239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ctr">
            <a:noAutofit/>
          </a:bodyPr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1840" y="12547440"/>
            <a:ext cx="29146320" cy="260604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rmAutofit/>
          </a:bodyPr>
          <a:p>
            <a:pPr marL="1714680" indent="-171468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1" marL="3714840" indent="-142884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15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3" marL="8001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5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 lvl="6" marL="10287000" indent="-1143000">
              <a:spcBef>
                <a:spcPts val="40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0"/>
                <a:tab algn="l" pos="91440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71840" y="39573000"/>
            <a:ext cx="7143840" cy="2895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715840" y="39573000"/>
            <a:ext cx="10858320" cy="2895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ct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574320" y="39573000"/>
            <a:ext cx="7143480" cy="2895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228600" bIns="228600" anchor="t">
            <a:noAutofit/>
          </a:bodyPr>
          <a:lstStyle>
            <a:lvl1pPr indent="0" algn="r">
              <a:buNone/>
              <a:tabLst>
                <a:tab algn="l" pos="0"/>
                <a:tab algn="l" pos="4572000"/>
                <a:tab algn="l" pos="9144000"/>
              </a:tabLst>
              <a:defRPr b="0" lang="en-US" sz="7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0"/>
                <a:tab algn="l" pos="9144000"/>
              </a:tabLst>
            </a:pPr>
            <a:fld id="{54440C1C-1673-44F1-A834-08C2F3CC35D1}" type="slidenum"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809720"/>
            <a:ext cx="303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28800" y="1521000"/>
            <a:ext cx="5715000" cy="3619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686800" y="2389320"/>
            <a:ext cx="1874520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PROGRAMA DE RECURSOS HUMANOS DA ANP PARA O SETOR PETRÓLEO E GÁ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(PRH - ANP/MCT)</a:t>
            </a:r>
            <a:r>
              <a:rPr b="0" lang="pt-B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8422720" y="1158840"/>
            <a:ext cx="3230280" cy="499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76720" y="5573880"/>
            <a:ext cx="2849868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 Narrow"/>
                <a:ea typeface="Courier New"/>
              </a:rPr>
              <a:t>PRH 24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grama Interdisciplinar em Engenharia de Petróleo e Gás Natural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7889760"/>
            <a:ext cx="30022560" cy="3658680"/>
          </a:xfrm>
          <a:prstGeom prst="rect">
            <a:avLst/>
          </a:prstGeom>
          <a:noFill/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ÁLISE DE DESCONTINUIDADES DE CARBETOS SOBRE METAIS</a:t>
            </a:r>
            <a:r>
              <a:rPr b="1" lang="pt-BR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Book Antiqua"/>
              </a:rPr>
              <a:t>Haroldo A. Ponte; Lígia F. Kaefer; Ana C. T. Go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Universidade Federal do Paraná, Departamento de Tecnologia Química, PRH-24, Laboratório de Eletroquímica de Superfícies e Corrosão (LESC) – Curitiba, PR, Brasil, hponte@engquim.ufpr</a:t>
            </a:r>
            <a:r>
              <a:rPr b="1" lang="pt-BR" sz="4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.b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5120" y="11727000"/>
            <a:ext cx="151146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1697400" indent="-169740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97400" indent="-1697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carbetos são combinações químicas binárias de carbono e metais com grande interesse industrial. Eles são utilizados como revestimentos em indústria petroquímica, refinarias, indústria de plástico e sede de válvulas. O estudo da aplicação do carbeto como revestimento anticorrosivo está baseado em suas propriedades mecânicas e químicas. Estes materiais são aplicados para prevenir ou dar o máximo de proteção contra a corrosão e a erosão. Estes revestimentos também favorecem sua utilização como camadas de aplicações de altas temperaturas. Filmes finos geralmente são obtidos através de método de deposição a vapor, com ocorrência de porosidade ou descontinuidades que reduzem a resistência de corrosão. A análise do grau de porosidade com relação às condições de aplicação é o objetivo deste trabalho. A técnica a ser usada é a Dissolução Anódica Voltamétrica (DAV) aplicada a amostras de metal cobertas com carbeto de tungstên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5120" y="16649640"/>
            <a:ext cx="15114600" cy="258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ligas de carbetos complexos são conhecidas como o grupo que, em algumas aplicações, podem substituir ao diamante. Sua dureza varia de 8.5 a 9.5 na escala Mohs (diamante tem dureza 10 Mohs). Este grupo é composto por carbetos de tungstênio, vanádio, titânio, boretos, etc., sendo o mais utilizado o carboneto de tungstênio. Estas ligas complexas oferecem elevada resistência à abrasão de baixo esforç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carbetos empregados no revestimento de materiais apresentam-se quase sempre na forma de pós e suas melhores aplicações são feitas com equipamentos a chama (FS), plasma, detonação e chama de alta velocidade (HVOF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plicação de revestimentos protetores através da aspersão térmica, detonação ou outros processos tem o objetivo de diminuir as taxas de desgaste e aumentar a resistência à corrosão dos materiais, peças e componentes estrutura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rodo de trabal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rea exposta ao eletrólito: 1cm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ato: aço carbono 1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stimento: carbeto de tungstênio (SDG 20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ssura revestimento: 254 – 330 mí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-eletrodo: pla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rodo de referência: Ag/AgCl (KCl saturad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rólito: KOH 1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ula eletroquímica: convencional de três eletr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ostato: Voltalab 40 (modelo PGZ 3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VoltaMater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odo de Anál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écnica utilizada neste estudo, Dissolução Anódica Voltamétrica (DAV), está baseada na análise da reação de dissolução e passivação do substrato revestido e do substrato isento de revestimento. A solução de dissolução/passivação adequada é aquela em que o substrato não sofre ataque químico, mas se dissolve ativamente e passive quando polarizado anodicamente. Já o revestimento deve se manter inativo. A porosidade pode, então, ser determinada pela relação entre as densidades de carga de dissolução do substrato com e sem revestimento na mesma região de potenc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do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nálise do comportamento do substrato em relação a técn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es de varredura: 5; 10; 20; 30; 50; 100 e 200 mV s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limites anódico e catódico de potencial para cada voltamograma foram   -1300 e -500 mV (versus referência), respectiv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1 – Voltamet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Aço (20 mV s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picos I e II correspondem aos picos anódicos e os picos III e IV aos picos catód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ico I corresponde à reação Fe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 (II) e o pico II à reação Fe (II)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 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ico catódico III é devido à redução de Fe (III)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 (II), enquanto que o pico IV à redução parcial para ferro metá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picos II e III aumentam com o número de cic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ico III corresponde ao pico II e o pico IV está relacionado ao pico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Estudo eletroquímico dos corpos de prova com revestimento de carb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2 – Voltametria do aç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o 1020 revestido com W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145000" y="12088800"/>
            <a:ext cx="16002000" cy="20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1680120" indent="-1680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rimeiro ciclo apresentou um pico bastante intenso, o qual diminuiu, com o aumento do número de ciclos, até alcançar uma pseudo-estabil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os da existência de porosidade no revestimento de carbeto: a faixa de potencial de ocorrência dos picos corresponde à mesma que para o caso do aço sem revestimento e o início da reação do segundo pico se dá num potencial de </a:t>
            </a:r>
            <a:r>
              <a:rPr b="0" i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0,95 V para ambos os casos, indicando mesma re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dução do aumento de porosidade através de riscos no revestim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                                                                              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3 – Corpo de prova com espessura de revestimento igual a 310 mícrons. (A) efeito do aumento da porosidade  para o décimo ciclo (B) variação da carga de passivação no décimo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aumento da porosidade faz aumentar a carga de passivação do substrato revestimento através de um comportamento lin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 Verificação da ocorrência de variações estequiométricas no filme passivante form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4 – I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ico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E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o pequeno da resistência do filme a partir da corrente de passivação de 8,4 mA, o que não indica uma alteração significativa das propriedades do fil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 Visualização da estrutura morfológica do revest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a 5 – Micrografia ótica de um corpo de prova revestido com carbeto de tungstênio (aumento: 200 vezes). Parte I: substrato de aço carbono. Parte II: filme de carb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680120" indent="-1680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70000"/>
              <a:buFont typeface="Wingdings" charset="2"/>
              <a:buChar char=""/>
              <a:tabLst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revestimento apresenta uma grande quantidade de pequenos poros, o que justifica a presença do pico anódico encontrados nas voltametrias dos corpos revest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992720" y="32613480"/>
            <a:ext cx="16104960" cy="9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previsto, foi possível detectar, através da técnica de Dissolução Anódica Voltamétrica, o efeito da porosidade em revestimentos de carbeto sobre aço. Esta porosidade pode ser observada na microscopia representada pela Fig.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a etapa do trabalho, foi necessário provocar porosidade nos corpos de prova para a avaliação do comportamento da carga de passivação em relação ao aumento de porosidade. Detectou-se, com isso, um comportamento linear, validando a técnica de análise utiliz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continuação deste trabalho será feito um estudo quantitativo da porosidade, até então, detectada qualitativament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adec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autores agradecem pelo apoio dado pela Agência Nacional do Petróleo (ANP), Programa de Recursos Humanos da ANP para o Setor Petróleo e Gás (PRH-24/ANP/MME/MCT) através da concessão de bolsa de iniciação científica e suporte financeiro, pelo Conselho Nacional de Desenvolvimento Científico e Tecnológico (CNPq) pela concessão de bolsa de Desenvolvimento Técnico Industrial, pela Praxair por disponibilizar os corpos de prova, e por todos os integrantes do Grupo de Eletroquímica Aplicada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ê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FURK, E.; HEUVEL, H.J. &amp; DEDERICHS, H.G. Ind. Anz., vol. 111, pp. 22. 198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YASHIN, I.Y. &amp; CHUKALOVSKAYA, T.V. A technique for measurement of porosity in                                     protective coatings, Surface &amp; Coatings Technology, n. 88, pp. 5-11.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14680" indent="-1714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0"/>
                <a:tab algn="l" pos="91440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UL, A.M. Análise por técnica eletroquímica da porosidade de revestimentos sobre                                      superfícies metálicas – Dissertação de Mestrado, Curitiba – PR.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ig1" descr=""/>
          <p:cNvPicPr/>
          <p:nvPr/>
        </p:nvPicPr>
        <p:blipFill>
          <a:blip r:embed="rId4"/>
          <a:srcRect l="7392" t="8069" r="12665" b="3980"/>
          <a:stretch/>
        </p:blipFill>
        <p:spPr>
          <a:xfrm>
            <a:off x="4343400" y="33299280"/>
            <a:ext cx="3419640" cy="2749680"/>
          </a:xfrm>
          <a:prstGeom prst="rect">
            <a:avLst/>
          </a:prstGeom>
          <a:ln w="0">
            <a:noFill/>
          </a:ln>
        </p:spPr>
      </p:pic>
      <p:pic>
        <p:nvPicPr>
          <p:cNvPr id="52" name="fig2" descr=""/>
          <p:cNvPicPr/>
          <p:nvPr/>
        </p:nvPicPr>
        <p:blipFill>
          <a:blip r:embed="rId5"/>
          <a:srcRect l="6388" t="8287" r="10684" b="3546"/>
          <a:stretch/>
        </p:blipFill>
        <p:spPr>
          <a:xfrm>
            <a:off x="9982080" y="39700080"/>
            <a:ext cx="3419640" cy="2665440"/>
          </a:xfrm>
          <a:prstGeom prst="rect">
            <a:avLst/>
          </a:prstGeom>
          <a:ln w="0">
            <a:noFill/>
          </a:ln>
        </p:spPr>
      </p:pic>
      <p:pic>
        <p:nvPicPr>
          <p:cNvPr id="53" name="fig3" descr=""/>
          <p:cNvPicPr/>
          <p:nvPr/>
        </p:nvPicPr>
        <p:blipFill>
          <a:blip r:embed="rId6"/>
          <a:srcRect l="5886" t="7635" r="12665" b="4813"/>
          <a:stretch/>
        </p:blipFill>
        <p:spPr>
          <a:xfrm>
            <a:off x="19431000" y="15544800"/>
            <a:ext cx="3419640" cy="2698920"/>
          </a:xfrm>
          <a:prstGeom prst="rect">
            <a:avLst/>
          </a:prstGeom>
          <a:ln w="0">
            <a:noFill/>
          </a:ln>
        </p:spPr>
      </p:pic>
      <p:pic>
        <p:nvPicPr>
          <p:cNvPr id="54" name="fig4" descr=""/>
          <p:cNvPicPr/>
          <p:nvPr/>
        </p:nvPicPr>
        <p:blipFill>
          <a:blip r:embed="rId7"/>
          <a:srcRect l="7867" t="9119" r="12665" b="1809"/>
          <a:stretch/>
        </p:blipFill>
        <p:spPr>
          <a:xfrm>
            <a:off x="26441280" y="15544800"/>
            <a:ext cx="3419640" cy="2813040"/>
          </a:xfrm>
          <a:prstGeom prst="rect">
            <a:avLst/>
          </a:prstGeom>
          <a:ln w="0">
            <a:noFill/>
          </a:ln>
        </p:spPr>
      </p:pic>
      <p:pic>
        <p:nvPicPr>
          <p:cNvPr id="55" name="fig5" descr=""/>
          <p:cNvPicPr/>
          <p:nvPr/>
        </p:nvPicPr>
        <p:blipFill>
          <a:blip r:embed="rId8"/>
          <a:srcRect l="5384" t="9124" r="12665" b="4598"/>
          <a:stretch/>
        </p:blipFill>
        <p:spPr>
          <a:xfrm>
            <a:off x="26822520" y="22555080"/>
            <a:ext cx="3600360" cy="2786040"/>
          </a:xfrm>
          <a:prstGeom prst="rect">
            <a:avLst/>
          </a:prstGeom>
          <a:ln w="0">
            <a:noFill/>
          </a:ln>
        </p:spPr>
      </p:pic>
      <p:pic>
        <p:nvPicPr>
          <p:cNvPr id="56" name="micro" descr=""/>
          <p:cNvPicPr/>
          <p:nvPr/>
        </p:nvPicPr>
        <p:blipFill>
          <a:blip r:embed="rId9"/>
          <a:stretch/>
        </p:blipFill>
        <p:spPr>
          <a:xfrm>
            <a:off x="27965520" y="26593920"/>
            <a:ext cx="4317840" cy="3071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94320" y="28879920"/>
            <a:ext cx="28191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0" y="27736920"/>
            <a:ext cx="16002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7:12:06Z</dcterms:created>
  <dc:creator>MATERIAIS</dc:creator>
  <dc:description/>
  <dc:language>en-US</dc:language>
  <cp:lastModifiedBy>Alunos GEA</cp:lastModifiedBy>
  <dcterms:modified xsi:type="dcterms:W3CDTF">2002-12-12T17:00:52Z</dcterms:modified>
  <cp:revision>74</cp:revision>
  <dc:subject/>
  <dc:title>Apresentação do PowerPoint</dc:title>
</cp:coreProperties>
</file>