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45720000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C26-FF03-49A2-A7BC-190B97AB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091-CBAE-4F3E-8558-B52D4FE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4F5-D009-473E-8142-75D75F4D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E8F-3148-4D96-ABAD-ED0BDA88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AD7-EB48-4988-9EB6-E3606883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02C-5733-4E66-9624-6D9EACD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F65-0E14-4845-9364-53218CF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B00-639E-4CE3-BE6D-237C018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4063680"/>
            <a:ext cx="2914632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28B-49B7-4E71-AC4F-573A9B03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53E-A4B6-453B-BC70-63A0199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EB5-A9C4-4078-83C2-1E895F3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CDA-2BB5-4D9A-AA09-AE06238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4680" indent="-17146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4840" indent="-142884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5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3" marL="8001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ct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0"/>
                <a:tab algn="l" pos="9144000"/>
              </a:tabLst>
            </a:pPr>
            <a:fld id="{5752A85C-5886-47C2-B2B0-AD634E903871}" type="slidenum"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905120"/>
            <a:ext cx="303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86800" y="2514600"/>
            <a:ext cx="187452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PROGRAMA DE RECURSOS HUMANOS DA ANP PARA O SETOR PETRÓLEO E GÁ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(PRH - ANP/MCT)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22720" y="1219320"/>
            <a:ext cx="3230280" cy="525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6720" y="5638680"/>
            <a:ext cx="284986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Courier New"/>
              </a:rPr>
              <a:t>PRH 2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Interdisciplinar em Engenharia de Petróleo e Gás Natural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7772400"/>
            <a:ext cx="30022560" cy="4565160"/>
          </a:xfrm>
          <a:prstGeom prst="rect">
            <a:avLst/>
          </a:prstGeom>
          <a:noFill/>
          <a:ln w="792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Estudo da influência de propriedades de filmes de polissulfetos de ferro no comportamento eletroquímico do aço em unidades de FCC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Bolsista: Patrícia Raquel Silv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r: Prof. Dr. Haroldo de Araújo Ponte (UFP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655160"/>
            <a:ext cx="15316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longo praz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(projeto MONITOR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volver novo método de monitorament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a corrosão em meio de sulfetos, baseado na avaliação da integridade do filme de sulfeto de ferro formado sobre aço utilizando técnicas convencionais de polarização voltamétrica cíclica. Este método possibilitará a inibição em tempo real do processo de degradação do filme por cianetos antes de permeação significativa de hidrogênio na estrutura metálica, aumentando assim a vida útil e a confiabilidade dos equipamen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curto prazo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 (dissertação de mestrado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valiar a viabilidade da aplicação da técnica de voltametria cíclica para detecção da destruição do filme de sulfeto de ferro pelo ciane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58280" y="29260800"/>
            <a:ext cx="71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 EXPERIM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7642680"/>
            <a:ext cx="144018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E DISCUS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000ppm" descr=""/>
          <p:cNvPicPr/>
          <p:nvPr/>
        </p:nvPicPr>
        <p:blipFill>
          <a:blip r:embed="rId3"/>
          <a:srcRect l="7281" t="8576" r="11493" b="4125"/>
          <a:stretch/>
        </p:blipFill>
        <p:spPr>
          <a:xfrm>
            <a:off x="4005360" y="39166920"/>
            <a:ext cx="468144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Faixa de potencial2" descr=""/>
          <p:cNvPicPr/>
          <p:nvPr/>
        </p:nvPicPr>
        <p:blipFill>
          <a:blip r:embed="rId4"/>
          <a:srcRect l="8201" t="8214" r="9512" b="3727"/>
          <a:stretch/>
        </p:blipFill>
        <p:spPr>
          <a:xfrm>
            <a:off x="9677520" y="39124080"/>
            <a:ext cx="47433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7830800" y="22709160"/>
            <a:ext cx="1508760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adição de 1000 ppm de cianeto provocou alteração significativa nas curvas de voltametria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coerente com o princípio da técnica de medida de porosidade DAV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sultados indicam a viabilidade do método para detecção do processo de deterioração da película protetora de sulfeto por ação do ciane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senvolvimento de técnica para monitoramento dos processos de corrosão presentes em vasos das unidades de FC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830800" y="27203400"/>
            <a:ext cx="15163920" cy="12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TIVIDADES FU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viabilidade da técnica em escala piloto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gura 2 - Visão geral do vaso piloto de testes já instalado na PETROBRAS /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estar estabilização do filme com formação por temp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cutar testes de lab. utilizando célula de flux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renovação da soluçã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nalisar influência de outros fatores na voltametria (T, pH, [H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], [CO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[Cl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[O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etc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terminar parâmetros ótimos para a aplicação da técnica (velocidade de varredura, faixa de potencial, tempo de espera, critérios de estabilização da curva, etc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finir variáveis de controle que seriam utilizadas para monitoramento (i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ic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ic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ou outra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arar resposta da técnica proposta X resposta de sensores de hidrogênio frente a adições de diferentes [CN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 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finir valor crítico da variável de controle na técnica de voltametria a partir do qual se observa permeação de hidrogêni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set-point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monitoramen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cionamento da injeção de inibidor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155120" y="29438640"/>
            <a:ext cx="6419520" cy="3784680"/>
            <a:chOff x="22155120" y="29438640"/>
            <a:chExt cx="6419520" cy="378468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22155120" y="29438640"/>
              <a:ext cx="2781000" cy="37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Mvc-014f" descr=""/>
            <p:cNvPicPr/>
            <p:nvPr/>
          </p:nvPicPr>
          <p:blipFill>
            <a:blip r:embed="rId6"/>
            <a:stretch/>
          </p:blipFill>
          <p:spPr>
            <a:xfrm>
              <a:off x="25774560" y="29438640"/>
              <a:ext cx="2800080" cy="37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7754480" y="39639960"/>
            <a:ext cx="15087600" cy="55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GRADECI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Agência Nacional do Petróleo (ANP)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ela concessão de bolsa de mestrado vinculada ao PRH 24 -ANP/MME/METC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CTPETRO/FINEP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que tem subsidiado o projeto MONITOR (aprovado no edital nº 3 – Ref. FINEP 1122/00, nº 33), pelo qual foram adquiridos diversos materiais utilizados neste trabalh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PETROBRA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especialmente à Unidade de Negócio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SIX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elo envolvimento, apoio técnico e participação com contrapartida no projeto MONITO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os integrantes do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Grupo de Eletroquímica Aplicada (GE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767280" y="12649320"/>
            <a:ext cx="41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0" y="13563720"/>
            <a:ext cx="12268080" cy="642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E E MONITOR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574000" y="15324120"/>
            <a:ext cx="5334120" cy="2390040"/>
            <a:chOff x="20574000" y="15324120"/>
            <a:chExt cx="5334120" cy="2390040"/>
          </a:xfrm>
        </p:grpSpPr>
        <p:sp>
          <p:nvSpPr>
            <p:cNvPr id="61" name=""/>
            <p:cNvSpPr/>
            <p:nvPr/>
          </p:nvSpPr>
          <p:spPr>
            <a:xfrm>
              <a:off x="20574000" y="15324120"/>
              <a:ext cx="5334120" cy="23900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ONITORAMENTO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ensores de Hidrogên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uído Eletroquímic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mpedância Eletroquímic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74000" y="16085880"/>
              <a:ext cx="5334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0650320" y="18319680"/>
            <a:ext cx="5105160" cy="2980440"/>
            <a:chOff x="20650320" y="18319680"/>
            <a:chExt cx="5105160" cy="2980440"/>
          </a:xfrm>
        </p:grpSpPr>
        <p:sp>
          <p:nvSpPr>
            <p:cNvPr id="64" name=""/>
            <p:cNvSpPr/>
            <p:nvPr/>
          </p:nvSpPr>
          <p:spPr>
            <a:xfrm>
              <a:off x="20650320" y="18319680"/>
              <a:ext cx="5105160" cy="2980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300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MEDIDAS DE CONTRO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Polissulfet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Peróxido de Hidrogên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Compostos orgânic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50320" y="19081800"/>
              <a:ext cx="50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3200" y="14401800"/>
            <a:ext cx="7010280" cy="1981080"/>
            <a:chOff x="2743200" y="14401800"/>
            <a:chExt cx="7010280" cy="1981080"/>
          </a:xfrm>
        </p:grpSpPr>
        <p:sp>
          <p:nvSpPr>
            <p:cNvPr id="67" name=""/>
            <p:cNvSpPr/>
            <p:nvPr/>
          </p:nvSpPr>
          <p:spPr>
            <a:xfrm>
              <a:off x="2743200" y="14401800"/>
              <a:ext cx="7010280" cy="1981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. Formação do íon bissulfe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(N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HS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N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f00ff"/>
                  </a:solidFill>
                  <a:latin typeface="Arial"/>
                </a:rPr>
                <a:t>HS</a:t>
              </a:r>
              <a:r>
                <a:rPr b="0" lang="en-US" sz="3000" spc="-1" strike="noStrike" baseline="30000">
                  <a:solidFill>
                    <a:srgbClr val="ff00ff"/>
                  </a:solidFill>
                  <a:latin typeface="Arial"/>
                </a:rPr>
                <a:t>-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3000" spc="-1" strike="noStrike">
                  <a:solidFill>
                    <a:srgbClr val="ff00ff"/>
                  </a:solidFill>
                  <a:latin typeface="Arial"/>
                </a:rPr>
                <a:t>HS</a:t>
              </a:r>
              <a:r>
                <a:rPr b="0" lang="en-US" sz="3000" spc="-1" strike="noStrike" baseline="30000">
                  <a:solidFill>
                    <a:srgbClr val="ff00ff"/>
                  </a:solidFill>
                  <a:latin typeface="Arial"/>
                </a:rPr>
                <a:t>-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15094080"/>
              <a:ext cx="701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791320" y="163828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210680" y="14325480"/>
            <a:ext cx="9982440" cy="4267080"/>
            <a:chOff x="10210680" y="14325480"/>
            <a:chExt cx="9982440" cy="4267080"/>
          </a:xfrm>
        </p:grpSpPr>
        <p:sp>
          <p:nvSpPr>
            <p:cNvPr id="71" name=""/>
            <p:cNvSpPr/>
            <p:nvPr/>
          </p:nvSpPr>
          <p:spPr>
            <a:xfrm>
              <a:off x="10210680" y="14325480"/>
              <a:ext cx="9982440" cy="4267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74760" indent="-374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2.1 Permeação de hidrogênio atômico (H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) no vas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Pode penetrar no aço e causar dano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Induzida por Empolamento de Hidrogênio (HB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Induzida por Hidrogênio (H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Orientada por Tensões e Induzida por Hidrogênio (SOH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sob Tensão provocada por Sulfeto (SS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210680" y="15163560"/>
              <a:ext cx="9982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981080" y="19735920"/>
            <a:ext cx="8229600" cy="2438280"/>
            <a:chOff x="1981080" y="19735920"/>
            <a:chExt cx="8229600" cy="2438280"/>
          </a:xfrm>
        </p:grpSpPr>
        <p:sp>
          <p:nvSpPr>
            <p:cNvPr id="74" name=""/>
            <p:cNvSpPr/>
            <p:nvPr/>
          </p:nvSpPr>
          <p:spPr>
            <a:xfrm>
              <a:off x="1981080" y="19735920"/>
              <a:ext cx="8229600" cy="243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3. Destruição do filme pelo ciane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8000"/>
                  </a:solidFill>
                  <a:latin typeface="Arial"/>
                </a:rPr>
                <a:t>FeS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+ 6  </a:t>
              </a:r>
              <a:r>
                <a:rPr b="0" lang="pt-BR" sz="3000" spc="-1" strike="noStrike">
                  <a:solidFill>
                    <a:srgbClr val="ff0000"/>
                  </a:solidFill>
                  <a:latin typeface="Arial"/>
                </a:rPr>
                <a:t>CN</a:t>
              </a:r>
              <a:r>
                <a:rPr b="0" lang="pt-BR" sz="3000" spc="-1" strike="noStrike" baseline="30000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0" lang="pt-BR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Fe(CN)</a:t>
              </a:r>
              <a:r>
                <a:rPr b="0" lang="pt-BR" sz="3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4-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+ S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Uma vez desestabilizada a película de FeS, o aço fica novamente exposto ao meio corrosivo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20421720"/>
              <a:ext cx="8229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133720" y="13563720"/>
            <a:ext cx="18135360" cy="642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ÃO EM VASOS DE UNIDADES DE F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1599480" y="18516240"/>
            <a:ext cx="1676520" cy="762120"/>
          </a:xfrm>
          <a:custGeom>
            <a:avLst/>
            <a:gdLst>
              <a:gd name="textAreaLeft" fmla="*/ 558720 w 1676520"/>
              <a:gd name="textAreaRight" fmla="*/ 1436040 w 167652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39280" y="18745200"/>
            <a:ext cx="9753840" cy="1905120"/>
            <a:chOff x="10439280" y="18745200"/>
            <a:chExt cx="9753840" cy="1905120"/>
          </a:xfrm>
        </p:grpSpPr>
        <p:sp>
          <p:nvSpPr>
            <p:cNvPr id="79" name=""/>
            <p:cNvSpPr/>
            <p:nvPr/>
          </p:nvSpPr>
          <p:spPr>
            <a:xfrm>
              <a:off x="10439280" y="18745200"/>
              <a:ext cx="9753840" cy="1905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.2 Formação de filme superficial de sulfeto de ferr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tua como barreira entre o aço e o meio agressivo, RETARDANDO O PROCESSO CORROSIVO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39280" y="19431000"/>
              <a:ext cx="9753840" cy="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19520" y="16916400"/>
            <a:ext cx="7010280" cy="2247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. Ataque do bissulfeto ao aç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anód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HS</a:t>
            </a:r>
            <a:r>
              <a:rPr b="0" lang="pt-BR" sz="30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pt-BR" sz="30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+ S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catód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HS</a:t>
            </a:r>
            <a:r>
              <a:rPr b="0" lang="pt-BR" sz="30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8000"/>
                </a:solidFill>
                <a:latin typeface="Arial"/>
              </a:rPr>
              <a:t> Fe</a:t>
            </a:r>
            <a:r>
              <a:rPr b="0" lang="pt-BR" sz="3000" spc="-1" strike="noStrike" baseline="-25000">
                <a:solidFill>
                  <a:srgbClr val="008000"/>
                </a:solidFill>
                <a:latin typeface="Arial"/>
              </a:rPr>
              <a:t>x</a:t>
            </a:r>
            <a:r>
              <a:rPr b="0" lang="pt-BR" sz="30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pt-BR" sz="3000" spc="-1" strike="noStrike" baseline="-25000">
                <a:solidFill>
                  <a:srgbClr val="008000"/>
                </a:solidFill>
                <a:latin typeface="Arial"/>
              </a:rPr>
              <a:t>y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7602200"/>
            <a:ext cx="7010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18135720"/>
            <a:ext cx="609480" cy="457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41960" y="18562680"/>
            <a:ext cx="121932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916424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3" idx="6"/>
            <a:endCxn id="71" idx="1"/>
          </p:cNvCxnSpPr>
          <p:nvPr/>
        </p:nvCxnSpPr>
        <p:spPr>
          <a:xfrm flipV="1">
            <a:off x="6400800" y="16458840"/>
            <a:ext cx="3810240" cy="19058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>
            <a:off x="7243560" y="19018080"/>
            <a:ext cx="3231000" cy="5896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2707720" y="17754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12680" y="15239880"/>
            <a:ext cx="6553440" cy="634788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écnica de monitora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spirada na técnica DAV (Dissolução Anódica Voltamétrica) de medida de porosidade (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 um revestimen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ndo que o ataque do CN- gera descontinuidades no filme de Fe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oltametria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taque 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12680" y="16230600"/>
            <a:ext cx="655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69680" y="14628960"/>
            <a:ext cx="2630520" cy="687240"/>
          </a:xfrm>
          <a:custGeom>
            <a:avLst/>
            <a:gdLst>
              <a:gd name="textAreaLeft" fmla="*/ 460080 w 2630520"/>
              <a:gd name="textAreaRight" fmla="*/ 1907280 w 2630520"/>
              <a:gd name="textAreaTop" fmla="*/ 91800 h 687240"/>
              <a:gd name="textAreaBottom" fmla="*/ 595440 h 68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_Assinaturas%20Simples" descr=""/>
          <p:cNvPicPr/>
          <p:nvPr/>
        </p:nvPicPr>
        <p:blipFill>
          <a:blip r:embed="rId7"/>
          <a:stretch/>
        </p:blipFill>
        <p:spPr>
          <a:xfrm>
            <a:off x="2133720" y="1279440"/>
            <a:ext cx="6476760" cy="1235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81080" y="43129080"/>
            <a:ext cx="15392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gura 1 – Voltametrias cíclicas em solução de N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 0,05 M até estabilização da curva com posterior adição de 1000 ppm de C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a) de –1400 mV até – 400 mV e (b) de –1200 mV até –500 mV (vs. Ag/AgCl – sat. K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782880" y="30522960"/>
            <a:ext cx="10771200" cy="6586560"/>
            <a:chOff x="3782880" y="30522960"/>
            <a:chExt cx="10771200" cy="6586560"/>
          </a:xfrm>
        </p:grpSpPr>
        <p:sp>
          <p:nvSpPr>
            <p:cNvPr id="95" name=""/>
            <p:cNvSpPr/>
            <p:nvPr/>
          </p:nvSpPr>
          <p:spPr>
            <a:xfrm>
              <a:off x="3782880" y="30522960"/>
              <a:ext cx="10771200" cy="6586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celula_color" descr=""/>
            <p:cNvPicPr/>
            <p:nvPr/>
          </p:nvPicPr>
          <p:blipFill>
            <a:blip r:embed="rId8"/>
            <a:srcRect l="0" t="16502" r="0" b="-602"/>
            <a:stretch/>
          </p:blipFill>
          <p:spPr>
            <a:xfrm>
              <a:off x="5899320" y="30614760"/>
              <a:ext cx="6246720" cy="647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11382480" y="32088240"/>
              <a:ext cx="2790000" cy="2429640"/>
              <a:chOff x="11382480" y="32088240"/>
              <a:chExt cx="2790000" cy="24296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1382480" y="32088240"/>
                <a:ext cx="2790000" cy="2429640"/>
                <a:chOff x="11382480" y="32088240"/>
                <a:chExt cx="2790000" cy="242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382480" y="32520960"/>
                  <a:ext cx="2790000" cy="1996920"/>
                </a:xfrm>
                <a:prstGeom prst="cube">
                  <a:avLst>
                    <a:gd name="adj" fmla="val 38333"/>
                  </a:avLst>
                </a:prstGeom>
                <a:solidFill>
                  <a:srgbClr val="c0c0c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661840" y="32620680"/>
                  <a:ext cx="2222640" cy="565920"/>
                </a:xfrm>
                <a:prstGeom prst="parallelogram">
                  <a:avLst>
                    <a:gd name="adj" fmla="val 110388"/>
                  </a:avLst>
                </a:prstGeom>
                <a:solidFill>
                  <a:srgbClr val="caf4fe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2637800" y="32088240"/>
                  <a:ext cx="976320" cy="532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c0c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2777840" y="32335560"/>
                <a:ext cx="530640" cy="185760"/>
                <a:chOff x="12777840" y="32335560"/>
                <a:chExt cx="530640" cy="1857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2783600" y="3233556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12862080" y="32346360"/>
                  <a:ext cx="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2783600" y="3242556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2777840" y="32442120"/>
                  <a:ext cx="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2783600" y="3252132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2928680" y="32335560"/>
                  <a:ext cx="84240" cy="185760"/>
                  <a:chOff x="12928680" y="32335560"/>
                  <a:chExt cx="84240" cy="1857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flipH="1">
                    <a:off x="12934800" y="3233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12928680" y="32346360"/>
                    <a:ext cx="0" cy="6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12934800" y="3242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>
                    <a:off x="13012920" y="32442120"/>
                    <a:ext cx="0" cy="6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>
                    <a:off x="12934800" y="3252132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3061160" y="32340960"/>
                  <a:ext cx="102240" cy="90000"/>
                  <a:chOff x="13061160" y="32340960"/>
                  <a:chExt cx="102240" cy="900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13061160" y="323521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3085280" y="32340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13163400" y="323521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3085280" y="32430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13218120" y="32340960"/>
                  <a:ext cx="90360" cy="174600"/>
                  <a:chOff x="13218120" y="32340960"/>
                  <a:chExt cx="90360" cy="17460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13236120" y="323409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3230000" y="3251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13218120" y="323575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13218120" y="324367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4" name=""/>
            <p:cNvSpPr/>
            <p:nvPr/>
          </p:nvSpPr>
          <p:spPr>
            <a:xfrm>
              <a:off x="11296440" y="33446880"/>
              <a:ext cx="214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rmostá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11200" y="3581388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él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letroquí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419720" y="33527880"/>
              <a:ext cx="1730160" cy="1863720"/>
              <a:chOff x="4419720" y="33527880"/>
              <a:chExt cx="1730160" cy="186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4419720" y="34491240"/>
                <a:ext cx="1346040" cy="900360"/>
              </a:xfrm>
              <a:prstGeom prst="cube">
                <a:avLst>
                  <a:gd name="adj" fmla="val 59615"/>
                </a:avLst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98880" y="34221600"/>
                <a:ext cx="866880" cy="360360"/>
              </a:xfrm>
              <a:prstGeom prst="cube">
                <a:avLst>
                  <a:gd name="adj" fmla="val 25000"/>
                </a:avLst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997520" y="34232760"/>
                <a:ext cx="1152360" cy="530280"/>
                <a:chOff x="4997520" y="34232760"/>
                <a:chExt cx="1152360" cy="5302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997520" y="34367760"/>
                  <a:ext cx="576000" cy="187200"/>
                  <a:chOff x="4997520" y="34367760"/>
                  <a:chExt cx="576000" cy="1872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>
                    <a:off x="5003640" y="343677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4997520" y="3437892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5003640" y="3445884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5082120" y="3447540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5003640" y="34554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081400" y="3439044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5464080" y="34367760"/>
                    <a:ext cx="109440" cy="175320"/>
                    <a:chOff x="5464080" y="34367760"/>
                    <a:chExt cx="109440" cy="17532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482080" y="3436776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487840" y="3454308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V="1">
                      <a:off x="5464080" y="343846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5464080" y="344638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5573520" y="3439476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flipV="1">
                      <a:off x="5573520" y="3447432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5285160" y="34367760"/>
                    <a:ext cx="109440" cy="175320"/>
                    <a:chOff x="5285160" y="34367760"/>
                    <a:chExt cx="109440" cy="17532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5303160" y="3436776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308920" y="3454308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flipV="1">
                      <a:off x="5285160" y="343846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flipV="1">
                      <a:off x="5285160" y="344638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flipV="1">
                      <a:off x="5394600" y="3439476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V="1">
                      <a:off x="5394600" y="3447432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"/>
                <p:cNvSpPr/>
                <p:nvPr/>
              </p:nvSpPr>
              <p:spPr>
                <a:xfrm>
                  <a:off x="4997520" y="34232760"/>
                  <a:ext cx="115236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539240" y="33527880"/>
                <a:ext cx="156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pH-me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5120" y="34648560"/>
                <a:ext cx="147600" cy="1382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87960" y="34648560"/>
                <a:ext cx="146160" cy="1382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19840" y="34807320"/>
                <a:ext cx="147600" cy="1364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2200" y="34807320"/>
                <a:ext cx="146160" cy="1364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8975880" y="35201160"/>
              <a:ext cx="1923840" cy="539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820520" y="34823520"/>
              <a:ext cx="24300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olução aquo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 N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0,05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9745560" y="35831160"/>
              <a:ext cx="38412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9745200" y="36012600"/>
              <a:ext cx="384120" cy="177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176480" y="35676000"/>
              <a:ext cx="92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3878280" y="32142240"/>
              <a:ext cx="413712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975920" y="3148344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enciostato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alvanos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61880" y="312800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39080" y="315468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29560" y="3128004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A  (P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67680" y="3078468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06560" y="30708720"/>
              <a:ext cx="200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R (Ag/AgCl – sat. KC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48920" y="31165920"/>
              <a:ext cx="533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98320" y="31241880"/>
              <a:ext cx="24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(aço carbono-AISI 102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0708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59680" y="30708720"/>
              <a:ext cx="124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Borbulh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N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2:06Z</dcterms:created>
  <dc:creator>MATERIAIS</dc:creator>
  <dc:description/>
  <dc:language>en-US</dc:language>
  <cp:lastModifiedBy>Alunos GEA2</cp:lastModifiedBy>
  <dcterms:modified xsi:type="dcterms:W3CDTF">2002-09-16T20:39:42Z</dcterms:modified>
  <cp:revision>48</cp:revision>
  <dc:subject/>
  <dc:title>Apresentação do PowerPoint</dc:title>
</cp:coreProperties>
</file>