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4290000" cy="45720000"/>
  <p:notesSz cx="7105650" cy="10231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2110-69CE-4156-8716-2E70C45D5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71840" y="4063680"/>
            <a:ext cx="29146320" cy="7620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4572000"/>
                <a:tab algn="l" pos="9144000"/>
              </a:tabLst>
            </a:pPr>
            <a:endParaRPr b="0" lang="en-US" sz="2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2914632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71840" y="27536400"/>
            <a:ext cx="2914632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3FCB-07B6-41E5-ACA9-309C85031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71840" y="4063680"/>
            <a:ext cx="29146320" cy="7620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4572000"/>
                <a:tab algn="l" pos="9144000"/>
              </a:tabLst>
            </a:pPr>
            <a:endParaRPr b="0" lang="en-US" sz="2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7184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750680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4E83-C9AE-4074-873D-38381EACD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71840" y="4063680"/>
            <a:ext cx="29146320" cy="7620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4572000"/>
                <a:tab algn="l" pos="9144000"/>
              </a:tabLst>
            </a:pPr>
            <a:endParaRPr b="0" lang="en-US" sz="2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426480" y="1320804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280760" y="1320804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71840" y="2753640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426480" y="2753640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2280760" y="27536400"/>
            <a:ext cx="93848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16B9-0841-44CD-9AE7-367F36518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71840" y="4063680"/>
            <a:ext cx="29146320" cy="7620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4572000"/>
                <a:tab algn="l" pos="9144000"/>
              </a:tabLst>
            </a:pPr>
            <a:endParaRPr b="0" lang="en-US" sz="2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71840" y="13208040"/>
            <a:ext cx="29146320" cy="27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0"/>
              </a:spcBef>
              <a:buNone/>
              <a:tabLst>
                <a:tab algn="l" pos="0"/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754C-B276-4E76-9745-15D1ADA59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71840" y="4063680"/>
            <a:ext cx="29146320" cy="7620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4572000"/>
                <a:tab algn="l" pos="9144000"/>
              </a:tabLst>
            </a:pPr>
            <a:endParaRPr b="0" lang="en-US" sz="2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2914632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2D07-87C4-4EC9-98FB-E318B5DF7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71840" y="4063680"/>
            <a:ext cx="29146320" cy="7620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4572000"/>
                <a:tab algn="l" pos="9144000"/>
              </a:tabLst>
            </a:pPr>
            <a:endParaRPr b="0" lang="en-US" sz="2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4012-9D22-4D9C-A28F-C504CED42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71840" y="4063680"/>
            <a:ext cx="29146320" cy="7620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4572000"/>
                <a:tab algn="l" pos="9144000"/>
              </a:tabLst>
            </a:pPr>
            <a:endParaRPr b="0" lang="en-US" sz="2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7A3C-3D27-42FA-9DD2-2F00DDDAE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71840" y="4063680"/>
            <a:ext cx="29146320" cy="3532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0"/>
              </a:spcBef>
              <a:tabLst>
                <a:tab algn="l" pos="0"/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81F5-4D0D-47C9-A363-4BC2D2A4E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71840" y="4063680"/>
            <a:ext cx="29146320" cy="7620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4572000"/>
                <a:tab algn="l" pos="9144000"/>
              </a:tabLst>
            </a:pPr>
            <a:endParaRPr b="0" lang="en-US" sz="2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7184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888A-868E-4432-87D6-9CC54232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71840" y="4063680"/>
            <a:ext cx="29146320" cy="7620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4572000"/>
                <a:tab algn="l" pos="9144000"/>
              </a:tabLst>
            </a:pPr>
            <a:endParaRPr b="0" lang="en-US" sz="2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7506800" y="2753640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E0C5-11FE-45F3-A209-4D8AAAC7A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71840" y="4063680"/>
            <a:ext cx="29146320" cy="7620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4572000"/>
                <a:tab algn="l" pos="9144000"/>
              </a:tabLst>
            </a:pPr>
            <a:endParaRPr b="0" lang="en-US" sz="2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7184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7506800" y="13208040"/>
            <a:ext cx="1422324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71840" y="27536400"/>
            <a:ext cx="29146320" cy="130849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E15B-8596-4944-A69D-FCA3982B5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71840" y="4063680"/>
            <a:ext cx="29146320" cy="7620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4572000"/>
                <a:tab algn="l" pos="9144000"/>
              </a:tabLst>
            </a:pPr>
            <a:r>
              <a:rPr b="0" lang="en-US" sz="22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71840" y="13208040"/>
            <a:ext cx="29146320" cy="27432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marL="1714680" indent="-1714680">
              <a:spcBef>
                <a:spcPts val="40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0"/>
                <a:tab algn="l" pos="9144000"/>
              </a:tabLst>
            </a:pPr>
            <a:r>
              <a:rPr b="0" lang="en-US" sz="16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  <a:p>
            <a:pPr lvl="1" marL="3714840" indent="-1428840">
              <a:spcBef>
                <a:spcPts val="40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0"/>
                <a:tab algn="l" pos="9144000"/>
              </a:tabLst>
            </a:pPr>
            <a:r>
              <a:rPr b="0" lang="en-US" sz="16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5000" indent="-1143000">
              <a:spcBef>
                <a:spcPts val="40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0"/>
                <a:tab algn="l" pos="9144000"/>
              </a:tabLst>
            </a:pPr>
            <a:r>
              <a:rPr b="0" lang="en-US" sz="16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  <a:p>
            <a:pPr lvl="3" marL="8001000" indent="-1143000">
              <a:spcBef>
                <a:spcPts val="40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0"/>
                <a:tab algn="l" pos="9144000"/>
              </a:tabLst>
            </a:pPr>
            <a:r>
              <a:rPr b="0" lang="en-US" sz="16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  <a:p>
            <a:pPr lvl="4" marL="10287000" indent="-1143000">
              <a:spcBef>
                <a:spcPts val="40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0"/>
                <a:tab algn="l" pos="9144000"/>
              </a:tabLst>
            </a:pPr>
            <a:r>
              <a:rPr b="0" lang="en-US" sz="16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  <a:p>
            <a:pPr lvl="5" marL="10287000" indent="-1143000">
              <a:spcBef>
                <a:spcPts val="40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0"/>
                <a:tab algn="l" pos="9144000"/>
              </a:tabLst>
            </a:pPr>
            <a:r>
              <a:rPr b="0" lang="en-US" sz="16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  <a:p>
            <a:pPr lvl="6" marL="10287000" indent="-1143000">
              <a:spcBef>
                <a:spcPts val="40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0"/>
                <a:tab algn="l" pos="9144000"/>
              </a:tabLst>
            </a:pPr>
            <a:r>
              <a:rPr b="0" lang="en-US" sz="16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571840" y="41655600"/>
            <a:ext cx="7143840" cy="3048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lstStyle>
            <a:lvl1pPr indent="0">
              <a:buNone/>
              <a:tabLst>
                <a:tab algn="l" pos="0"/>
                <a:tab algn="l" pos="4572000"/>
                <a:tab algn="l" pos="9144000"/>
              </a:tabLst>
              <a:defRPr b="0" lang="en-US" sz="7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0"/>
                <a:tab algn="l" pos="91440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715840" y="41655600"/>
            <a:ext cx="10858320" cy="3048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lstStyle>
            <a:lvl1pPr indent="0" algn="ctr">
              <a:buNone/>
              <a:tabLst>
                <a:tab algn="l" pos="0"/>
                <a:tab algn="l" pos="4572000"/>
                <a:tab algn="l" pos="9144000"/>
              </a:tabLst>
              <a:defRPr b="0" lang="en-US" sz="7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0"/>
                <a:tab algn="l" pos="91440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4574320" y="41655600"/>
            <a:ext cx="7143480" cy="3048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lstStyle>
            <a:lvl1pPr indent="0" algn="r">
              <a:buNone/>
              <a:tabLst>
                <a:tab algn="l" pos="0"/>
                <a:tab algn="l" pos="4572000"/>
                <a:tab algn="l" pos="9144000"/>
              </a:tabLst>
              <a:defRPr b="0" lang="en-US" sz="7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0"/>
                <a:tab algn="l" pos="9144000"/>
              </a:tabLst>
            </a:pPr>
            <a:fld id="{E6994F73-49EE-46E9-9F09-2223569E7C55}" type="slidenum">
              <a:rPr b="0" lang="en-US" sz="7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2.png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631400" y="11353680"/>
            <a:ext cx="9372600" cy="333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571680" indent="-5716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4572000"/>
                <a:tab algn="l" pos="9144000"/>
              </a:tabLst>
            </a:pPr>
            <a:r>
              <a:rPr b="1" lang="pt-BR" sz="4400" spc="-1" strike="noStrike">
                <a:solidFill>
                  <a:srgbClr val="000099"/>
                </a:solidFill>
                <a:latin typeface="Comic Sans MS"/>
              </a:rPr>
              <a:t>Etapas previs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SzPct val="130000"/>
              <a:buFont typeface="Comic Sans MS"/>
              <a:buChar char="•"/>
              <a:tabLst>
                <a:tab algn="l" pos="45720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SzPct val="130000"/>
              <a:buFont typeface="Comic Sans MS"/>
              <a:buChar char="•"/>
              <a:tabLst>
                <a:tab algn="l" pos="4572000"/>
                <a:tab algn="l" pos="91440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omic Sans MS"/>
              </a:rPr>
              <a:t>Construção de célula de geração de hidrogênio e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4572000"/>
                <a:tab algn="l" pos="91440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Comic Sans MS"/>
              </a:rPr>
              <a:t>detecção de hidrogênio modificada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45720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45720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45720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45720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45720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45720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45720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45720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45720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45720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45720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45720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45720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45720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45720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45720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45720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45720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45720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45720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45720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45720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45720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45720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45720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45720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45720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45720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45720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45720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45720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45720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45720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SzPct val="130000"/>
              <a:buFont typeface="Comic Sans MS"/>
              <a:buChar char="•"/>
              <a:tabLst>
                <a:tab algn="l" pos="4572000"/>
                <a:tab algn="l" pos="91440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omic Sans MS"/>
              </a:rPr>
              <a:t>Construção de diversos sensores utilizando pares bimetálicos diferentes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SzPct val="130000"/>
              <a:buFont typeface="Comic Sans MS"/>
              <a:buChar char="•"/>
              <a:tabLst>
                <a:tab algn="l" pos="4572000"/>
                <a:tab algn="l" pos="91440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omic Sans MS"/>
              </a:rPr>
              <a:t>Avaliação do comportamento dos novos sensores, com relação ao tempo de resposta, histerese após carregamentos e descarregamentos sucessivos, influência da temperatura, vida útil, entre outros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SzPct val="130000"/>
              <a:buFont typeface="Comic Sans MS"/>
              <a:buChar char="•"/>
              <a:tabLst>
                <a:tab algn="l" pos="4572000"/>
                <a:tab algn="l" pos="91440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omic Sans MS"/>
              </a:rPr>
              <a:t>Comparação dos novos sensores com sensores tradicionais (CDS) e sensores compostos de pares bimetálicos (materiais) diferente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4572000"/>
                <a:tab algn="l" pos="9144000"/>
              </a:tabLst>
            </a:pPr>
            <a:r>
              <a:rPr b="1" lang="pt-BR" sz="4400" spc="-1" strike="noStrike">
                <a:solidFill>
                  <a:srgbClr val="000099"/>
                </a:solidFill>
                <a:latin typeface="Comic Sans MS"/>
              </a:rPr>
              <a:t>Resultados espera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SzPct val="130000"/>
              <a:buFont typeface="Comic Sans MS"/>
              <a:buChar char="•"/>
              <a:tabLst>
                <a:tab algn="l" pos="4572000"/>
                <a:tab algn="l" pos="91440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omic Sans MS"/>
              </a:rPr>
              <a:t>Capacitação de um corpo de pesquisadores com relação à avaliação completa de sensores bimetálicos de hidrogênio permead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SzPct val="130000"/>
              <a:buFont typeface="Comic Sans MS"/>
              <a:buChar char="•"/>
              <a:tabLst>
                <a:tab algn="l" pos="4572000"/>
                <a:tab algn="l" pos="91440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omic Sans MS"/>
              </a:rPr>
              <a:t>Avaliação do desempenho sob condições contínuas de carregamento e descarregamento, possibilitando a escolha do par que apresente a melhor resposta, sem ruídos e sem amortecimento do sinal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638360" indent="-49536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SzPct val="130000"/>
              <a:buFont typeface="Comic Sans MS"/>
              <a:buChar char="–"/>
              <a:tabLst>
                <a:tab algn="l" pos="45720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4572000"/>
                <a:tab algn="l" pos="9144000"/>
              </a:tabLst>
            </a:pPr>
            <a:r>
              <a:rPr b="1" lang="pt-BR" sz="4400" spc="-1" strike="noStrike">
                <a:solidFill>
                  <a:srgbClr val="000099"/>
                </a:solidFill>
                <a:latin typeface="Comic Sans MS"/>
              </a:rPr>
              <a:t>Agradecimen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1638360" indent="-495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SzPct val="130000"/>
              <a:buFont typeface="Comic Sans MS"/>
              <a:buChar char="•"/>
              <a:tabLst>
                <a:tab algn="l" pos="4572000"/>
                <a:tab algn="l" pos="91440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omic Sans MS"/>
              </a:rPr>
              <a:t>À Agência Nacional do Petróleo (ANP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SzPct val="130000"/>
              <a:buFont typeface="Comic Sans MS"/>
              <a:buChar char="•"/>
              <a:tabLst>
                <a:tab algn="l" pos="4572000"/>
                <a:tab algn="l" pos="91440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omic Sans MS"/>
              </a:rPr>
              <a:t>Aos integrantes do PRH-24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SzPct val="130000"/>
              <a:buFont typeface="Comic Sans MS"/>
              <a:buChar char="•"/>
              <a:tabLst>
                <a:tab algn="l" pos="4572000"/>
                <a:tab algn="l" pos="91440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omic Sans MS"/>
              </a:rPr>
              <a:t>Ao Projeto “OCCUC” (Projeto FINEP 1121/00) Ao Projeto “MONITOR” (Projeto FINEP 1122/00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SzPct val="130000"/>
              <a:buFont typeface="Comic Sans MS"/>
              <a:buChar char="•"/>
              <a:tabLst>
                <a:tab algn="l" pos="4572000"/>
                <a:tab algn="l" pos="91440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omic Sans MS"/>
              </a:rPr>
              <a:t>Aos alunos do grupo de eletroquímica aplicada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268080" y="11277720"/>
            <a:ext cx="9372600" cy="332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5000"/>
          </a:bodyPr>
          <a:p>
            <a:pPr marL="582840" indent="-58284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82840" indent="-58284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4572000"/>
                <a:tab algn="l" pos="9144000"/>
              </a:tabLst>
            </a:pPr>
            <a:r>
              <a:rPr b="1" lang="pt-BR" sz="4400" spc="-1" strike="noStrike">
                <a:solidFill>
                  <a:srgbClr val="000099"/>
                </a:solidFill>
                <a:latin typeface="Comic Sans MS"/>
              </a:rPr>
              <a:t>Estado da ar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82840" indent="-58284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82840" indent="-5828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0"/>
                <a:tab algn="l" pos="9144000"/>
              </a:tabLst>
            </a:pPr>
            <a:r>
              <a:rPr b="1" lang="pt-BR" sz="3000" spc="-1" strike="noStrike">
                <a:solidFill>
                  <a:srgbClr val="000099"/>
                </a:solidFill>
                <a:latin typeface="Comic Sans MS"/>
              </a:rPr>
              <a:t>Geração de hidrogênio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82840" indent="-582840"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SzPct val="130000"/>
              <a:buFont typeface="Comic Sans MS"/>
              <a:buChar char="•"/>
              <a:tabLst>
                <a:tab algn="l" pos="4572000"/>
                <a:tab algn="l" pos="91440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omic Sans MS"/>
                <a:ea typeface="Arial"/>
              </a:rPr>
              <a:t>Formação de prót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82840" indent="-582840"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SzPct val="130000"/>
              <a:buFont typeface="Comic Sans MS"/>
              <a:buChar char="•"/>
              <a:tabLst>
                <a:tab algn="l" pos="4572000"/>
                <a:tab algn="l" pos="91440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omic Sans MS"/>
                <a:ea typeface="Arial"/>
              </a:rPr>
              <a:t>Formação de hidrogênio atômico (H</a:t>
            </a:r>
            <a:r>
              <a:rPr b="0" lang="pt-BR" sz="30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0</a:t>
            </a:r>
            <a:r>
              <a:rPr b="0" lang="pt-BR" sz="3000" spc="-1" strike="noStrike">
                <a:solidFill>
                  <a:srgbClr val="000000"/>
                </a:solidFill>
                <a:latin typeface="Comic Sans MS"/>
                <a:ea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82840" indent="-582840"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SzPct val="130000"/>
              <a:buFont typeface="Comic Sans MS"/>
              <a:buChar char="•"/>
              <a:tabLst>
                <a:tab algn="l" pos="4572000"/>
                <a:tab algn="l" pos="91440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omic Sans MS"/>
                <a:ea typeface="Arial"/>
              </a:rPr>
              <a:t>Gás hidrogênio (H</a:t>
            </a:r>
            <a:r>
              <a:rPr b="0" lang="pt-BR" sz="3000" spc="-1" strike="noStrike" baseline="-30000">
                <a:solidFill>
                  <a:srgbClr val="000000"/>
                </a:solidFill>
                <a:latin typeface="Comic Sans MS"/>
                <a:ea typeface="Arial"/>
              </a:rPr>
              <a:t>2</a:t>
            </a:r>
            <a:r>
              <a:rPr b="0" lang="pt-BR" sz="3000" spc="-1" strike="noStrike">
                <a:solidFill>
                  <a:srgbClr val="000000"/>
                </a:solidFill>
                <a:latin typeface="Comic Sans MS"/>
                <a:ea typeface="Arial"/>
              </a:rPr>
              <a:t>), adsorvid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82840" indent="-582840"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SzPct val="130000"/>
              <a:buFont typeface="Comic Sans MS"/>
              <a:buChar char="•"/>
              <a:tabLst>
                <a:tab algn="l" pos="4572000"/>
                <a:tab algn="l" pos="91440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omic Sans MS"/>
                <a:ea typeface="Arial"/>
              </a:rPr>
              <a:t>na estrutura metálic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82840" indent="-5828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82840" indent="-5828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0"/>
                <a:tab algn="l" pos="9144000"/>
              </a:tabLst>
            </a:pPr>
            <a:r>
              <a:rPr b="1" lang="pt-BR" sz="3000" spc="-1" strike="noStrike">
                <a:solidFill>
                  <a:srgbClr val="000099"/>
                </a:solidFill>
                <a:latin typeface="Comic Sans MS"/>
              </a:rPr>
              <a:t>Tipo de dano:</a:t>
            </a:r>
            <a:r>
              <a:rPr b="0" lang="pt-BR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82840" indent="-582840"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SzPct val="130000"/>
              <a:buFont typeface="Comic Sans MS"/>
              <a:buChar char="•"/>
              <a:tabLst>
                <a:tab algn="l" pos="4572000"/>
                <a:tab algn="l" pos="91440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omic Sans MS"/>
              </a:rPr>
              <a:t>1) Dependente da microestrutur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221120" indent="-476280"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Font typeface="Comic Sans MS"/>
              <a:buChar char="–"/>
              <a:tabLst>
                <a:tab algn="l" pos="4572000"/>
                <a:tab algn="l" pos="91440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omic Sans MS"/>
                <a:ea typeface="Arial"/>
              </a:rPr>
              <a:t>Elementos de lig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221120" indent="-476280"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Font typeface="Comic Sans MS"/>
              <a:buChar char="–"/>
              <a:tabLst>
                <a:tab algn="l" pos="4572000"/>
                <a:tab algn="l" pos="91440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omic Sans MS"/>
                <a:ea typeface="Arial"/>
              </a:rPr>
              <a:t>Microestrutur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221120" indent="-476280"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Font typeface="Comic Sans MS"/>
              <a:buChar char="–"/>
              <a:tabLst>
                <a:tab algn="l" pos="4572000"/>
                <a:tab algn="l" pos="91440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omic Sans MS"/>
                <a:ea typeface="Arial"/>
              </a:rPr>
              <a:t>Resistência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221120" indent="-476280"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Font typeface="Comic Sans MS"/>
              <a:buChar char="–"/>
              <a:tabLst>
                <a:tab algn="l" pos="4572000"/>
                <a:tab algn="l" pos="91440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omic Sans MS"/>
                <a:ea typeface="Arial"/>
              </a:rPr>
              <a:t>Segregação de fa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221120" indent="-476280"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Font typeface="Comic Sans MS"/>
              <a:buChar char="–"/>
              <a:tabLst>
                <a:tab algn="l" pos="4572000"/>
                <a:tab algn="l" pos="91440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omic Sans MS"/>
                <a:ea typeface="Arial"/>
              </a:rPr>
              <a:t>Forma de inclusões não-metálicas</a:t>
            </a:r>
            <a:r>
              <a:rPr b="0" lang="pt-BR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221120" indent="-476280"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Font typeface="Comic Sans MS"/>
              <a:buChar char="–"/>
              <a:tabLst>
                <a:tab algn="l" pos="45720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82840" indent="-58284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4572000"/>
                <a:tab algn="l" pos="9144000"/>
              </a:tabLst>
            </a:pPr>
            <a:r>
              <a:rPr b="1" lang="pt-BR" sz="4400" spc="-1" strike="noStrike">
                <a:solidFill>
                  <a:srgbClr val="000099"/>
                </a:solidFill>
                <a:latin typeface="Comic Sans MS"/>
              </a:rPr>
              <a:t>O Modelo propos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82840" indent="-582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82840" indent="-582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0"/>
                <a:tab algn="l" pos="9144000"/>
              </a:tabLst>
            </a:pPr>
            <a:r>
              <a:rPr b="1" lang="pt-BR" sz="3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Princípio de funcionament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82840" indent="-58284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SzPct val="170000"/>
              <a:buFont typeface="Comic Sans MS"/>
              <a:buChar char="•"/>
              <a:tabLst>
                <a:tab algn="l" pos="4572000"/>
                <a:tab algn="l" pos="91440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ferenças na densidade eletrônica na rede atômica de cada materi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82840" indent="-58284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SzPct val="170000"/>
              <a:buFont typeface="Comic Sans MS"/>
              <a:buChar char="•"/>
              <a:tabLst>
                <a:tab algn="l" pos="4572000"/>
                <a:tab algn="l" pos="91440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terações nas propriedades físicas de uma junção de condutores dissimilare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82840" indent="-58284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SzPct val="170000"/>
              <a:buFont typeface="Comic Sans MS"/>
              <a:buChar char="•"/>
              <a:tabLst>
                <a:tab algn="l" pos="4572000"/>
                <a:tab algn="l" pos="91440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fluenciada pelo fluxo de hidrogênio atômic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82840" indent="-582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82840" indent="-582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0"/>
                <a:tab algn="l" pos="9144000"/>
              </a:tabLst>
            </a:pPr>
            <a:r>
              <a:rPr b="1" lang="pt-BR" sz="3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onstrução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82840" indent="-58284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SzPct val="170000"/>
              <a:buFont typeface="Comic Sans MS"/>
              <a:buChar char="•"/>
              <a:tabLst>
                <a:tab algn="l" pos="4572000"/>
                <a:tab algn="l" pos="9144000"/>
              </a:tabLst>
            </a:pPr>
            <a:r>
              <a:rPr b="0" i="1" lang="pt-BR" sz="3000" spc="-1" strike="noStrike">
                <a:solidFill>
                  <a:srgbClr val="000000"/>
                </a:solidFill>
                <a:latin typeface="Comic Sans MS"/>
              </a:rPr>
              <a:t>Par sensor</a:t>
            </a:r>
            <a:r>
              <a:rPr b="0" lang="pt-BR" sz="3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pt-BR" sz="3000" spc="-1" strike="noStrike">
                <a:solidFill>
                  <a:srgbClr val="000000"/>
                </a:solidFill>
                <a:latin typeface="Comic Sans MS"/>
              </a:rPr>
              <a:t>soldado e/ou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82840" indent="-582840">
              <a:lnSpc>
                <a:spcPct val="90000"/>
              </a:lnSpc>
              <a:tabLst>
                <a:tab algn="l" pos="0"/>
                <a:tab algn="l" pos="45720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pt-BR" sz="3000" spc="-1" strike="noStrike">
                <a:solidFill>
                  <a:srgbClr val="000000"/>
                </a:solidFill>
                <a:latin typeface="Comic Sans MS"/>
              </a:rPr>
              <a:t>unido</a:t>
            </a:r>
            <a:r>
              <a:rPr b="0" lang="pt-BR" sz="3000" spc="-1" strike="noStrike">
                <a:solidFill>
                  <a:srgbClr val="000000"/>
                </a:solidFill>
                <a:latin typeface="Comic Sans MS"/>
              </a:rPr>
              <a:t> à superfície metálica sob permeação, de tal modo a formar uma continuidade metalúrgica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221120" indent="-47628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SzPct val="170000"/>
              <a:buFont typeface="Comic Sans MS"/>
              <a:buChar char="–"/>
              <a:tabLst>
                <a:tab algn="l" pos="4572000"/>
                <a:tab algn="l" pos="91440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omic Sans MS"/>
              </a:rPr>
              <a:t>sujeito à permeação por H</a:t>
            </a:r>
            <a:r>
              <a:rPr b="0" lang="pt-BR" sz="3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221120" indent="-4762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SzPct val="170000"/>
              <a:buFont typeface="Comic Sans MS"/>
              <a:buChar char="–"/>
              <a:tabLst>
                <a:tab algn="l" pos="45720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221120" indent="-4762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SzPct val="170000"/>
              <a:buFont typeface="Comic Sans MS"/>
              <a:buChar char="–"/>
              <a:tabLst>
                <a:tab algn="l" pos="45720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221120" indent="-4762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SzPct val="170000"/>
              <a:buFont typeface="Comic Sans MS"/>
              <a:buChar char="–"/>
              <a:tabLst>
                <a:tab algn="l" pos="45720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221120" indent="-4762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SzPct val="170000"/>
              <a:buFont typeface="Comic Sans MS"/>
              <a:buChar char="–"/>
              <a:tabLst>
                <a:tab algn="l" pos="45720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221120" indent="-4762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SzPct val="170000"/>
              <a:buFont typeface="Comic Sans MS"/>
              <a:buChar char="–"/>
              <a:tabLst>
                <a:tab algn="l" pos="45720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221120" indent="-4762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SzPct val="170000"/>
              <a:buFont typeface="Comic Sans MS"/>
              <a:buChar char="–"/>
              <a:tabLst>
                <a:tab algn="l" pos="45720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221120" indent="-4762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SzPct val="170000"/>
              <a:buFont typeface="Comic Sans MS"/>
              <a:buChar char="–"/>
              <a:tabLst>
                <a:tab algn="l" pos="45720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221120" indent="-4762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SzPct val="170000"/>
              <a:buFont typeface="Comic Sans MS"/>
              <a:buChar char="–"/>
              <a:tabLst>
                <a:tab algn="l" pos="45720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221120" indent="-4762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SzPct val="170000"/>
              <a:buFont typeface="Comic Sans MS"/>
              <a:buChar char="–"/>
              <a:tabLst>
                <a:tab algn="l" pos="45720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2840" indent="-58284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SzPct val="170000"/>
              <a:buFont typeface="Comic Sans MS"/>
              <a:buChar char="•"/>
              <a:tabLst>
                <a:tab algn="l" pos="4572000"/>
                <a:tab algn="l" pos="9144000"/>
              </a:tabLst>
            </a:pPr>
            <a:r>
              <a:rPr b="0" i="1" lang="pt-BR" sz="3000" spc="-1" strike="noStrike">
                <a:solidFill>
                  <a:srgbClr val="000000"/>
                </a:solidFill>
                <a:latin typeface="Comic Sans MS"/>
              </a:rPr>
              <a:t>Par de referência</a:t>
            </a:r>
            <a:r>
              <a:rPr b="0" lang="pt-BR" sz="3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pt-BR" sz="3000" spc="-1" strike="noStrike">
                <a:solidFill>
                  <a:srgbClr val="000000"/>
                </a:solidFill>
                <a:latin typeface="Comic Sans MS"/>
              </a:rPr>
              <a:t>apenas fixo</a:t>
            </a:r>
            <a:r>
              <a:rPr b="0" lang="pt-BR" sz="3000" spc="-1" strike="noStrike">
                <a:solidFill>
                  <a:srgbClr val="000000"/>
                </a:solidFill>
                <a:latin typeface="Comic Sans MS"/>
              </a:rPr>
              <a:t> à superfície metálica de tal modo que não forme nenhuma continuidade metalúrgica com aquela superfíci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221120" indent="-47628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SzPct val="170000"/>
              <a:buFont typeface="Comic Sans MS"/>
              <a:buChar char="–"/>
              <a:tabLst>
                <a:tab algn="l" pos="4572000"/>
                <a:tab algn="l" pos="91440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omic Sans MS"/>
              </a:rPr>
              <a:t>Não sujeito à permeação por H</a:t>
            </a:r>
            <a:r>
              <a:rPr b="0" lang="pt-BR" sz="3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82840" indent="-58284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SzPct val="170000"/>
              <a:buFont typeface="Comic Sans MS"/>
              <a:buChar char="•"/>
              <a:tabLst>
                <a:tab algn="l" pos="4572000"/>
                <a:tab algn="l" pos="91440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omic Sans MS"/>
              </a:rPr>
              <a:t>O </a:t>
            </a:r>
            <a:r>
              <a:rPr b="0" i="1" lang="pt-BR" sz="3000" spc="-1" strike="noStrike">
                <a:solidFill>
                  <a:srgbClr val="000000"/>
                </a:solidFill>
                <a:latin typeface="Comic Sans MS"/>
              </a:rPr>
              <a:t>par sensor </a:t>
            </a:r>
            <a:r>
              <a:rPr b="0" lang="pt-BR" sz="3000" spc="-1" strike="noStrike">
                <a:solidFill>
                  <a:srgbClr val="000000"/>
                </a:solidFill>
                <a:latin typeface="Comic Sans MS"/>
              </a:rPr>
              <a:t>e o </a:t>
            </a:r>
            <a:r>
              <a:rPr b="0" i="1" lang="pt-BR" sz="3000" spc="-1" strike="noStrike">
                <a:solidFill>
                  <a:srgbClr val="000000"/>
                </a:solidFill>
                <a:latin typeface="Comic Sans MS"/>
              </a:rPr>
              <a:t>par de referência </a:t>
            </a:r>
            <a:r>
              <a:rPr b="0" lang="pt-BR" sz="3000" spc="-1" strike="noStrike">
                <a:solidFill>
                  <a:srgbClr val="000000"/>
                </a:solidFill>
                <a:latin typeface="Comic Sans MS"/>
              </a:rPr>
              <a:t>são ambos conectados a medidores de potencial elétrico, sendo a diferença entre os pares uma função do fluxo de hidrogênio que atravessa a superfíci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221120" indent="-476280"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Font typeface="Comic Sans MS"/>
              <a:buChar char="–"/>
              <a:tabLst>
                <a:tab algn="l" pos="45720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82840" indent="-58284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4572000"/>
                <a:tab algn="l" pos="9144000"/>
              </a:tabLst>
            </a:pPr>
            <a:r>
              <a:rPr b="1" lang="pt-BR" sz="4400" spc="-1" strike="noStrike">
                <a:solidFill>
                  <a:srgbClr val="000099"/>
                </a:solidFill>
                <a:latin typeface="Comic Sans MS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82840" indent="-58284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82840" indent="-582840" algn="just"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SzPct val="130000"/>
              <a:buFont typeface="Comic Sans MS"/>
              <a:buChar char="•"/>
              <a:tabLst>
                <a:tab algn="l" pos="4572000"/>
                <a:tab algn="l" pos="91440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omic Sans MS"/>
              </a:rPr>
              <a:t>Estudo do comportamento eletroquímico do hidrogênio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82840" indent="-582840" algn="just"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SzPct val="130000"/>
              <a:buFont typeface="Comic Sans MS"/>
              <a:buChar char="•"/>
              <a:tabLst>
                <a:tab algn="l" pos="4572000"/>
                <a:tab algn="l" pos="91440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omic Sans MS"/>
              </a:rPr>
              <a:t>Estudos dos fenômenos que levam à existência de uma diferença de potencial em função do  fluxo de hidrogênio através do sensor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82840" indent="-582840" algn="just"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SzPct val="130000"/>
              <a:buFont typeface="Comic Sans MS"/>
              <a:buChar char="•"/>
              <a:tabLst>
                <a:tab algn="l" pos="4572000"/>
                <a:tab algn="l" pos="91440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omic Sans MS"/>
              </a:rPr>
              <a:t>Estudo dos efeitos de carregamentos e descarregamentos sucessivos sobr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221120" indent="-476280" algn="just"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SzPct val="130000"/>
              <a:buFont typeface="Comic Sans MS"/>
              <a:buChar char="–"/>
              <a:tabLst>
                <a:tab algn="l" pos="4572000"/>
                <a:tab algn="l" pos="91440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omic Sans MS"/>
              </a:rPr>
              <a:t>tempo e resposta do sensor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221120" indent="-476280" algn="just"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SzPct val="130000"/>
              <a:buFont typeface="Comic Sans MS"/>
              <a:buChar char="–"/>
              <a:tabLst>
                <a:tab algn="l" pos="4572000"/>
                <a:tab algn="l" pos="91440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omic Sans MS"/>
              </a:rPr>
              <a:t>histerese/amortecimento do sinal de resposta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221120" indent="-476280" algn="just"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SzPct val="130000"/>
              <a:buFont typeface="Comic Sans MS"/>
              <a:buChar char="–"/>
              <a:tabLst>
                <a:tab algn="l" pos="4572000"/>
                <a:tab algn="l" pos="91440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omic Sans MS"/>
              </a:rPr>
              <a:t>vida útil, efeito da temperatura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221120" indent="-476280" algn="just"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SzPct val="130000"/>
              <a:buFont typeface="Comic Sans MS"/>
              <a:buChar char="–"/>
              <a:tabLst>
                <a:tab algn="l" pos="4572000"/>
                <a:tab algn="l" pos="91440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omic Sans MS"/>
              </a:rPr>
              <a:t>influência do par bimetálico utilizado para a construção do sensor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82840" indent="-582840" algn="just"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SzPct val="130000"/>
              <a:buFont typeface="Comic Sans MS"/>
              <a:buChar char="•"/>
              <a:tabLst>
                <a:tab algn="l" pos="4572000"/>
                <a:tab algn="l" pos="91440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omic Sans MS"/>
              </a:rPr>
              <a:t>Comparação entre sensores convencionais (CDS) e bimetálico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81080" y="1905120"/>
            <a:ext cx="3032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057400" y="1600200"/>
            <a:ext cx="5715000" cy="38098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686800" y="2514600"/>
            <a:ext cx="18745200" cy="28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000080"/>
                </a:solidFill>
                <a:latin typeface="Comic Sans MS"/>
                <a:ea typeface="Times New Roman"/>
              </a:rPr>
              <a:t>PROGRAMA DE RECURSOS HUMANOS DA ANP PARA O SETOR PETRÓLEO E GÁ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80"/>
                </a:solidFill>
                <a:latin typeface="Comic Sans MS"/>
                <a:ea typeface="Times New Roman"/>
              </a:rPr>
              <a:t>(PRH - ANP/MCT)</a:t>
            </a:r>
            <a:r>
              <a:rPr b="0" lang="pt-BR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878240" y="22345560"/>
            <a:ext cx="3429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8727280" y="1219320"/>
            <a:ext cx="3230640" cy="52578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276720" y="5867280"/>
            <a:ext cx="28498680" cy="18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0000"/>
                </a:solidFill>
                <a:latin typeface="Comic Sans MS"/>
                <a:ea typeface="Courier New"/>
              </a:rPr>
              <a:t>PRH 24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grama Interdisciplinar em Engenharia de Petróleo e Gás Natural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09680" y="8001000"/>
            <a:ext cx="30022920" cy="3323160"/>
          </a:xfrm>
          <a:prstGeom prst="rect">
            <a:avLst/>
          </a:prstGeom>
          <a:noFill/>
          <a:ln w="792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99"/>
                </a:solidFill>
                <a:latin typeface="Comic Sans MS"/>
                <a:ea typeface="Arial"/>
              </a:rPr>
              <a:t>AVALIAÇÃO DE SENSORES BIMETÁLICOS PARA A DETECÇÃO E MEDIÇÃO DE HIDROGÊNIO PERMEADO ATRAVÉS DE ESTRUTURAS METÁLICAS</a:t>
            </a:r>
            <a:r>
              <a:rPr b="1" lang="pt-BR" sz="4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6633"/>
                </a:solidFill>
                <a:latin typeface="Comic Sans MS"/>
              </a:rPr>
              <a:t>MSc. Alexandre Michel Mau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6633"/>
                </a:solidFill>
                <a:latin typeface="Comic Sans MS"/>
              </a:rPr>
              <a:t>Orientador: Prof. Dr. Haroldo A. Pon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102080" y="22185360"/>
            <a:ext cx="3429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0" y="11353680"/>
            <a:ext cx="9372600" cy="325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9000"/>
          </a:bodyPr>
          <a:p>
            <a:pPr marL="610200" indent="-610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10200" indent="-6102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0"/>
                <a:tab algn="l" pos="9144000"/>
              </a:tabLst>
            </a:pPr>
            <a:r>
              <a:rPr b="1" lang="pt-BR" sz="4000" spc="-1" strike="noStrike">
                <a:solidFill>
                  <a:srgbClr val="000099"/>
                </a:solidFill>
                <a:latin typeface="Comic Sans MS"/>
              </a:rPr>
              <a:t>Introduçã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10200" indent="-610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10200" indent="-610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0"/>
                <a:tab algn="l" pos="9144000"/>
              </a:tabLst>
            </a:pPr>
            <a:r>
              <a:rPr b="1" lang="pt-BR" sz="3000" spc="-1" strike="noStrike">
                <a:solidFill>
                  <a:srgbClr val="000099"/>
                </a:solidFill>
                <a:latin typeface="Comic Sans MS"/>
              </a:rPr>
              <a:t>Principal problema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10200" indent="-610200" algn="just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SzPct val="170000"/>
              <a:buFont typeface="Comic Sans MS"/>
              <a:buChar char="•"/>
              <a:tabLst>
                <a:tab algn="l" pos="4572000"/>
                <a:tab algn="l" pos="9144000"/>
              </a:tabLst>
            </a:pPr>
            <a:r>
              <a:rPr b="1" lang="pt-BR" sz="3000" spc="-1" strike="noStrike">
                <a:solidFill>
                  <a:srgbClr val="000099"/>
                </a:solidFill>
                <a:latin typeface="Comic Sans MS"/>
              </a:rPr>
              <a:t>Controle da deterioração nas estruturas de aços das unidades refino de petróleo.</a:t>
            </a:r>
            <a:r>
              <a:rPr b="1" lang="pt-BR" sz="3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515960" indent="-498600" algn="just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SzPct val="130000"/>
              <a:buFont typeface="Comic Sans MS"/>
              <a:buChar char="–"/>
              <a:tabLst>
                <a:tab algn="l" pos="4572000"/>
                <a:tab algn="l" pos="91440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Causa: Mecanismos envolvendo a penetração de hidrogênio no aço e corrosão sob tensã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515960" indent="-498600" algn="just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SzPct val="130000"/>
              <a:buFont typeface="Comic Sans MS"/>
              <a:buChar char="–"/>
              <a:tabLst>
                <a:tab algn="l" pos="4572000"/>
                <a:tab algn="l" pos="91440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Relevância: aprox. 50 % dos casos é conseqüência da penetração de hidrogêni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515960" indent="-4986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10200" indent="-610200" algn="just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SzPct val="170000"/>
              <a:buFont typeface="Comic Sans MS"/>
              <a:buChar char="•"/>
              <a:tabLst>
                <a:tab algn="l" pos="4572000"/>
                <a:tab algn="l" pos="9144000"/>
              </a:tabLst>
            </a:pPr>
            <a:r>
              <a:rPr b="1" lang="pt-BR" sz="3000" spc="-1" strike="noStrike">
                <a:solidFill>
                  <a:srgbClr val="000099"/>
                </a:solidFill>
                <a:latin typeface="Comic Sans MS"/>
              </a:rPr>
              <a:t>Tipos de corrosão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515960" indent="-498600" algn="just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SzPct val="130000"/>
              <a:buFont typeface="Comic Sans MS"/>
              <a:buChar char="–"/>
              <a:tabLst>
                <a:tab algn="l" pos="4572000"/>
                <a:tab algn="l" pos="91440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Trincas induzidas por hidrogênio (HIC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515960" indent="-498600" algn="just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SzPct val="130000"/>
              <a:buFont typeface="Comic Sans MS"/>
              <a:buChar char="–"/>
              <a:tabLst>
                <a:tab algn="l" pos="4572000"/>
                <a:tab algn="l" pos="91440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Trinca induzida por empolamento de hidrogênio (HBIC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515960" indent="-498600" algn="just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SzPct val="130000"/>
              <a:buFont typeface="Comic Sans MS"/>
              <a:buChar char="–"/>
              <a:tabLst>
                <a:tab algn="l" pos="4572000"/>
                <a:tab algn="l" pos="91440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Trinca induzida por tensões orientadas provocadas por hidrogênio (SOHIC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515960" indent="-498600" algn="just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SzPct val="130000"/>
              <a:buFont typeface="Comic Sans MS"/>
              <a:buChar char="–"/>
              <a:tabLst>
                <a:tab algn="l" pos="4572000"/>
                <a:tab algn="l" pos="91440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Trinca sob tensão por enxofre (SSC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515960" indent="-498600" algn="just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SzPct val="130000"/>
              <a:buFont typeface="Comic Sans MS"/>
              <a:buChar char="–"/>
              <a:tabLst>
                <a:tab algn="l" pos="45720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10200" indent="-61020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4572000"/>
                <a:tab algn="l" pos="9144000"/>
              </a:tabLst>
            </a:pPr>
            <a:r>
              <a:rPr b="1" lang="pt-BR" sz="4400" spc="-1" strike="noStrike">
                <a:solidFill>
                  <a:srgbClr val="000099"/>
                </a:solidFill>
                <a:latin typeface="Comic Sans MS"/>
              </a:rPr>
              <a:t>Métodos de determina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10200" indent="-61020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10200" indent="-610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0"/>
                <a:tab algn="l" pos="9144000"/>
              </a:tabLst>
            </a:pPr>
            <a:r>
              <a:rPr b="1" lang="pt-BR" sz="3000" spc="-1" strike="noStrike">
                <a:solidFill>
                  <a:srgbClr val="006633"/>
                </a:solidFill>
                <a:latin typeface="Comic Sans MS"/>
              </a:rPr>
              <a:t>Hidrogênio retid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515960" indent="-498600"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SzPct val="130000"/>
              <a:buFont typeface="Comic Sans MS"/>
              <a:buChar char="–"/>
              <a:tabLst>
                <a:tab algn="l" pos="4572000"/>
                <a:tab algn="l" pos="91440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omic Sans MS"/>
                <a:ea typeface="Arial"/>
              </a:rPr>
              <a:t>Extração a vácu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10200" indent="-610200"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SzPct val="130000"/>
              <a:buFont typeface="Comic Sans MS"/>
              <a:buChar char="•"/>
              <a:tabLst>
                <a:tab algn="l" pos="4572000"/>
                <a:tab algn="l" pos="9144000"/>
              </a:tabLst>
            </a:pPr>
            <a:r>
              <a:rPr b="1" lang="pt-BR" sz="3000" spc="-1" strike="noStrike">
                <a:solidFill>
                  <a:srgbClr val="006633"/>
                </a:solidFill>
                <a:latin typeface="Comic Sans MS"/>
              </a:rPr>
              <a:t>Hidrogênio móvel (permeado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515960" indent="-498600"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SzPct val="130000"/>
              <a:buFont typeface="Comic Sans MS"/>
              <a:buChar char="–"/>
              <a:tabLst>
                <a:tab algn="l" pos="45720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omic Sans MS"/>
                <a:ea typeface="Arial"/>
              </a:rPr>
              <a:t>Sensores de pressã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2800080" indent="-436680"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SzPct val="130000"/>
              <a:buFont typeface="Comic Sans MS"/>
              <a:buChar char="•"/>
              <a:tabLst>
                <a:tab algn="l" pos="4572000"/>
                <a:tab algn="l" pos="91440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omic Sans MS"/>
                <a:ea typeface="Arial"/>
              </a:rPr>
              <a:t>Inserçã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2800080" indent="-436680"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SzPct val="130000"/>
              <a:buFont typeface="Comic Sans MS"/>
              <a:buChar char="•"/>
              <a:tabLst>
                <a:tab algn="l" pos="4572000"/>
                <a:tab algn="l" pos="91440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omic Sans MS"/>
                <a:ea typeface="Arial"/>
              </a:rPr>
              <a:t>Extern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2800080" indent="-436680">
              <a:lnSpc>
                <a:spcPct val="100000"/>
              </a:lnSpc>
              <a:spcBef>
                <a:spcPts val="575"/>
              </a:spcBef>
              <a:buClr>
                <a:srgbClr val="000099"/>
              </a:buClr>
              <a:buSzPct val="130000"/>
              <a:buFont typeface="Comic Sans MS"/>
              <a:buChar char="•"/>
              <a:tabLst>
                <a:tab algn="l" pos="45720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2800080" indent="-436680">
              <a:lnSpc>
                <a:spcPct val="100000"/>
              </a:lnSpc>
              <a:spcBef>
                <a:spcPts val="575"/>
              </a:spcBef>
              <a:buClr>
                <a:srgbClr val="000099"/>
              </a:buClr>
              <a:buSzPct val="130000"/>
              <a:buFont typeface="Comic Sans MS"/>
              <a:buChar char="•"/>
              <a:tabLst>
                <a:tab algn="l" pos="45720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2800080" indent="-436680">
              <a:lnSpc>
                <a:spcPct val="100000"/>
              </a:lnSpc>
              <a:spcBef>
                <a:spcPts val="575"/>
              </a:spcBef>
              <a:buClr>
                <a:srgbClr val="000099"/>
              </a:buClr>
              <a:buSzPct val="130000"/>
              <a:buFont typeface="Comic Sans MS"/>
              <a:buChar char="•"/>
              <a:tabLst>
                <a:tab algn="l" pos="45720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2800080" indent="-436680">
              <a:lnSpc>
                <a:spcPct val="100000"/>
              </a:lnSpc>
              <a:spcBef>
                <a:spcPts val="575"/>
              </a:spcBef>
              <a:buClr>
                <a:srgbClr val="000099"/>
              </a:buClr>
              <a:buSzPct val="130000"/>
              <a:buFont typeface="Comic Sans MS"/>
              <a:buChar char="•"/>
              <a:tabLst>
                <a:tab algn="l" pos="45720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2800080" indent="-436680">
              <a:lnSpc>
                <a:spcPct val="100000"/>
              </a:lnSpc>
              <a:spcBef>
                <a:spcPts val="575"/>
              </a:spcBef>
              <a:buClr>
                <a:srgbClr val="000099"/>
              </a:buClr>
              <a:buSzPct val="130000"/>
              <a:buFont typeface="Comic Sans MS"/>
              <a:buChar char="•"/>
              <a:tabLst>
                <a:tab algn="l" pos="45720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2800080" indent="-436680">
              <a:lnSpc>
                <a:spcPct val="100000"/>
              </a:lnSpc>
              <a:spcBef>
                <a:spcPts val="575"/>
              </a:spcBef>
              <a:buClr>
                <a:srgbClr val="000099"/>
              </a:buClr>
              <a:buSzPct val="130000"/>
              <a:buFont typeface="Comic Sans MS"/>
              <a:buChar char="•"/>
              <a:tabLst>
                <a:tab algn="l" pos="45720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2800080" indent="-436680">
              <a:lnSpc>
                <a:spcPct val="100000"/>
              </a:lnSpc>
              <a:spcBef>
                <a:spcPts val="575"/>
              </a:spcBef>
              <a:buClr>
                <a:srgbClr val="000099"/>
              </a:buClr>
              <a:buSzPct val="130000"/>
              <a:buFont typeface="Comic Sans MS"/>
              <a:buChar char="•"/>
              <a:tabLst>
                <a:tab algn="l" pos="45720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2800080" indent="-436680">
              <a:lnSpc>
                <a:spcPct val="100000"/>
              </a:lnSpc>
              <a:spcBef>
                <a:spcPts val="575"/>
              </a:spcBef>
              <a:buClr>
                <a:srgbClr val="000099"/>
              </a:buClr>
              <a:buSzPct val="130000"/>
              <a:buFont typeface="Comic Sans MS"/>
              <a:buChar char="•"/>
              <a:tabLst>
                <a:tab algn="l" pos="45720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610200" indent="-610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10200" indent="-610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10200" indent="-610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10200" indent="-610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10200" indent="-610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10200" indent="-610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515960" indent="-498600"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SzPct val="130000"/>
              <a:buFont typeface="Comic Sans MS"/>
              <a:buChar char="–"/>
              <a:tabLst>
                <a:tab algn="l" pos="45720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omic Sans MS"/>
                <a:ea typeface="Arial"/>
              </a:rPr>
              <a:t>Sensores eletroquímic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2800080" indent="-436680"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SzPct val="130000"/>
              <a:buFont typeface="Comic Sans MS"/>
              <a:buChar char="•"/>
              <a:tabLst>
                <a:tab algn="l" pos="4572000"/>
                <a:tab algn="l" pos="91440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omic Sans MS"/>
                <a:ea typeface="Arial"/>
              </a:rPr>
              <a:t>Inserçã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2800080" indent="-436680"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SzPct val="130000"/>
              <a:buFont typeface="Comic Sans MS"/>
              <a:buChar char="•"/>
              <a:tabLst>
                <a:tab algn="l" pos="4572000"/>
                <a:tab algn="l" pos="91440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omic Sans MS"/>
                <a:ea typeface="Arial"/>
              </a:rPr>
              <a:t>Sonda de paládi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2800080" indent="-436680"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SzPct val="130000"/>
              <a:buFont typeface="Comic Sans MS"/>
              <a:buChar char="•"/>
              <a:tabLst>
                <a:tab algn="l" pos="45720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2800080" indent="-436680"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SzPct val="130000"/>
              <a:buFont typeface="Comic Sans MS"/>
              <a:buChar char="•"/>
              <a:tabLst>
                <a:tab algn="l" pos="45720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2800080" indent="-436680"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SzPct val="130000"/>
              <a:buFont typeface="Comic Sans MS"/>
              <a:buChar char="•"/>
              <a:tabLst>
                <a:tab algn="l" pos="45720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2800080" indent="-436680"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SzPct val="130000"/>
              <a:buFont typeface="Comic Sans MS"/>
              <a:buChar char="•"/>
              <a:tabLst>
                <a:tab algn="l" pos="45720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2800080" indent="-436680"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SzPct val="130000"/>
              <a:buFont typeface="Comic Sans MS"/>
              <a:buChar char="•"/>
              <a:tabLst>
                <a:tab algn="l" pos="45720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2800080" indent="-436680"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SzPct val="130000"/>
              <a:buFont typeface="Comic Sans MS"/>
              <a:buChar char="•"/>
              <a:tabLst>
                <a:tab algn="l" pos="45720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2800080" indent="-436680"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SzPct val="130000"/>
              <a:buFont typeface="Comic Sans MS"/>
              <a:buChar char="•"/>
              <a:tabLst>
                <a:tab algn="l" pos="45720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2800080" indent="-436680"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SzPct val="130000"/>
              <a:buFont typeface="Comic Sans MS"/>
              <a:buChar char="•"/>
              <a:tabLst>
                <a:tab algn="l" pos="45720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2800080" indent="-436680"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SzPct val="130000"/>
              <a:buFont typeface="Comic Sans MS"/>
              <a:buChar char="•"/>
              <a:tabLst>
                <a:tab algn="l" pos="45720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2800080" indent="-436680"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SzPct val="130000"/>
              <a:buFont typeface="Comic Sans MS"/>
              <a:buChar char="•"/>
              <a:tabLst>
                <a:tab algn="l" pos="45720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2800080" indent="-436680"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SzPct val="130000"/>
              <a:buFont typeface="Comic Sans MS"/>
              <a:buChar char="•"/>
              <a:tabLst>
                <a:tab algn="l" pos="45720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2800080" indent="-436680"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SzPct val="130000"/>
              <a:buFont typeface="Comic Sans MS"/>
              <a:buChar char="•"/>
              <a:tabLst>
                <a:tab algn="l" pos="45720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2800080" indent="-436680"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SzPct val="130000"/>
              <a:buFont typeface="Comic Sans MS"/>
              <a:buChar char="•"/>
              <a:tabLst>
                <a:tab algn="l" pos="45720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2800080" indent="-436680"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SzPct val="130000"/>
              <a:buFont typeface="Comic Sans MS"/>
              <a:buChar char="•"/>
              <a:tabLst>
                <a:tab algn="l" pos="4572000"/>
                <a:tab algn="l" pos="91440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omic Sans MS"/>
                <a:ea typeface="Arial"/>
              </a:rPr>
              <a:t>Sonda de níquel (Barnacle cell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2800080" indent="-436680"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SzPct val="130000"/>
              <a:buFont typeface="Comic Sans MS"/>
              <a:buChar char="•"/>
              <a:tabLst>
                <a:tab algn="l" pos="4572000"/>
                <a:tab algn="l" pos="91440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omic Sans MS"/>
                <a:ea typeface="Arial"/>
              </a:rPr>
              <a:t>Sonda de níquel – NiOOH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2800080" indent="-436680"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SzPct val="130000"/>
              <a:buFont typeface="Comic Sans MS"/>
              <a:buChar char="•"/>
              <a:tabLst>
                <a:tab algn="l" pos="4572000"/>
                <a:tab algn="l" pos="91440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omic Sans MS"/>
                <a:ea typeface="Arial"/>
              </a:rPr>
              <a:t>Sondas de eletrólito sólid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515960" indent="-498600"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SzPct val="130000"/>
              <a:buFont typeface="Comic Sans MS"/>
              <a:buChar char="–"/>
              <a:tabLst>
                <a:tab algn="l" pos="45720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omic Sans MS"/>
                <a:ea typeface="Arial"/>
              </a:rPr>
              <a:t>Sensores de vácu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515960" indent="-498600"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SzPct val="130000"/>
              <a:buFont typeface="Comic Sans MS"/>
              <a:buChar char="–"/>
              <a:tabLst>
                <a:tab algn="l" pos="45720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omic Sans MS"/>
                <a:ea typeface="Arial"/>
              </a:rPr>
              <a:t>Células combustívei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aladio_2" descr=""/>
          <p:cNvPicPr/>
          <p:nvPr/>
        </p:nvPicPr>
        <p:blipFill>
          <a:blip r:embed="rId3"/>
          <a:stretch/>
        </p:blipFill>
        <p:spPr>
          <a:xfrm>
            <a:off x="2895480" y="33756480"/>
            <a:ext cx="5038920" cy="4394160"/>
          </a:xfrm>
          <a:prstGeom prst="rect">
            <a:avLst/>
          </a:prstGeom>
          <a:ln w="0">
            <a:noFill/>
          </a:ln>
        </p:spPr>
      </p:pic>
      <p:pic>
        <p:nvPicPr>
          <p:cNvPr id="53" name="Barnacle_2" descr=""/>
          <p:cNvPicPr/>
          <p:nvPr/>
        </p:nvPicPr>
        <p:blipFill>
          <a:blip r:embed="rId4"/>
          <a:stretch/>
        </p:blipFill>
        <p:spPr>
          <a:xfrm>
            <a:off x="5486400" y="37642680"/>
            <a:ext cx="5757840" cy="31114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9431000" y="33451920"/>
            <a:ext cx="11430000" cy="80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457200" indent="-457200" algn="just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706720" y="41148000"/>
            <a:ext cx="16381440" cy="87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normAutofit/>
          </a:bodyPr>
          <a:p>
            <a:pPr marL="1714680" indent="-1714680" algn="just">
              <a:lnSpc>
                <a:spcPct val="100000"/>
              </a:lnSpc>
              <a:spcBef>
                <a:spcPts val="2500"/>
              </a:spcBef>
              <a:buClr>
                <a:srgbClr val="000099"/>
              </a:buClr>
              <a:buSzPct val="130000"/>
              <a:buFont typeface="Comic Sans MS"/>
              <a:buChar char="•"/>
              <a:tabLst>
                <a:tab algn="l" pos="45720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Celula%20devanathan%20dim" descr=""/>
          <p:cNvPicPr/>
          <p:nvPr/>
        </p:nvPicPr>
        <p:blipFill>
          <a:blip r:embed="rId5"/>
          <a:srcRect l="13238" t="14244" r="24126" b="12432"/>
          <a:stretch/>
        </p:blipFill>
        <p:spPr>
          <a:xfrm>
            <a:off x="25831800" y="23698080"/>
            <a:ext cx="6118200" cy="55008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2344400" y="22860000"/>
            <a:ext cx="9372600" cy="310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750960" indent="-75096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45720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2133720" y="24612480"/>
            <a:ext cx="3598920" cy="7062840"/>
            <a:chOff x="2133720" y="24612480"/>
            <a:chExt cx="3598920" cy="7062840"/>
          </a:xfrm>
        </p:grpSpPr>
        <p:pic>
          <p:nvPicPr>
            <p:cNvPr id="59" name="Press2_2" descr=""/>
            <p:cNvPicPr/>
            <p:nvPr/>
          </p:nvPicPr>
          <p:blipFill>
            <a:blip r:embed="rId6"/>
            <a:stretch/>
          </p:blipFill>
          <p:spPr>
            <a:xfrm>
              <a:off x="2133720" y="26060040"/>
              <a:ext cx="3598920" cy="561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seta1" descr=""/>
            <p:cNvPicPr/>
            <p:nvPr/>
          </p:nvPicPr>
          <p:blipFill>
            <a:blip r:embed="rId7"/>
            <a:stretch/>
          </p:blipFill>
          <p:spPr>
            <a:xfrm>
              <a:off x="3200760" y="24612480"/>
              <a:ext cx="1439640" cy="1319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" name=""/>
          <p:cNvGrpSpPr/>
          <p:nvPr/>
        </p:nvGrpSpPr>
        <p:grpSpPr>
          <a:xfrm>
            <a:off x="6477120" y="25298280"/>
            <a:ext cx="4317840" cy="6391080"/>
            <a:chOff x="6477120" y="25298280"/>
            <a:chExt cx="4317840" cy="6391080"/>
          </a:xfrm>
        </p:grpSpPr>
        <p:pic>
          <p:nvPicPr>
            <p:cNvPr id="62" name="Press4_2" descr=""/>
            <p:cNvPicPr/>
            <p:nvPr/>
          </p:nvPicPr>
          <p:blipFill>
            <a:blip r:embed="rId8"/>
            <a:stretch/>
          </p:blipFill>
          <p:spPr>
            <a:xfrm>
              <a:off x="6477120" y="26974440"/>
              <a:ext cx="4317840" cy="471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seta21" descr=""/>
            <p:cNvPicPr/>
            <p:nvPr/>
          </p:nvPicPr>
          <p:blipFill>
            <a:blip r:embed="rId9"/>
            <a:stretch/>
          </p:blipFill>
          <p:spPr>
            <a:xfrm>
              <a:off x="7543800" y="25298280"/>
              <a:ext cx="1440000" cy="1284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"/>
          <p:cNvSpPr/>
          <p:nvPr/>
        </p:nvSpPr>
        <p:spPr>
          <a:xfrm>
            <a:off x="5715000" y="15239880"/>
            <a:ext cx="22860000" cy="152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13182480" y="27889200"/>
            <a:ext cx="7764480" cy="3746520"/>
            <a:chOff x="13182480" y="27889200"/>
            <a:chExt cx="7764480" cy="3746520"/>
          </a:xfrm>
        </p:grpSpPr>
        <p:pic>
          <p:nvPicPr>
            <p:cNvPr id="66" name="" descr=""/>
            <p:cNvPicPr/>
            <p:nvPr/>
          </p:nvPicPr>
          <p:blipFill>
            <a:blip r:embed="rId10"/>
            <a:srcRect l="7302" t="9298" r="7437" b="2583"/>
            <a:stretch/>
          </p:blipFill>
          <p:spPr>
            <a:xfrm>
              <a:off x="14554080" y="28346400"/>
              <a:ext cx="5038560" cy="29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seta5" descr=""/>
            <p:cNvPicPr/>
            <p:nvPr/>
          </p:nvPicPr>
          <p:blipFill>
            <a:blip r:embed="rId11"/>
            <a:stretch/>
          </p:blipFill>
          <p:spPr>
            <a:xfrm>
              <a:off x="13182480" y="27889200"/>
              <a:ext cx="1439640" cy="245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seta6" descr=""/>
            <p:cNvPicPr/>
            <p:nvPr/>
          </p:nvPicPr>
          <p:blipFill>
            <a:blip r:embed="rId12"/>
            <a:stretch/>
          </p:blipFill>
          <p:spPr>
            <a:xfrm>
              <a:off x="19506960" y="29184480"/>
              <a:ext cx="1440000" cy="2451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"/>
          <p:cNvSpPr/>
          <p:nvPr/>
        </p:nvSpPr>
        <p:spPr>
          <a:xfrm>
            <a:off x="8763120" y="33375600"/>
            <a:ext cx="1439640" cy="3200400"/>
          </a:xfrm>
          <a:custGeom>
            <a:avLst/>
            <a:gdLst>
              <a:gd name="textAreaLeft" fmla="*/ 192600 w 1439640"/>
              <a:gd name="textAreaRight" fmla="*/ 1247040 w 1439640"/>
              <a:gd name="textAreaTop" fmla="*/ 657360 h 3200400"/>
              <a:gd name="textAreaBottom" fmla="*/ 2258640 h 32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875" stAng="-5400000" swAng="5400000"/>
                <a:lnTo>
                  <a:pt x="21600" y="10805"/>
                </a:lnTo>
                <a:arcTo wR="21600" hR="8875" stAng="0" swAng="2957321"/>
                <a:lnTo>
                  <a:pt x="7200" y="21092"/>
                </a:lnTo>
                <a:lnTo>
                  <a:pt x="0" y="18715"/>
                </a:lnTo>
                <a:lnTo>
                  <a:pt x="7200" y="15322"/>
                </a:lnTo>
                <a:lnTo>
                  <a:pt x="7200" y="17242"/>
                </a:lnTo>
                <a:arcTo wR="21600" hR="8875" stAng="2957321" swAng="-2802925"/>
                <a:lnTo>
                  <a:pt x="21472" y="9840"/>
                </a:lnTo>
                <a:arcTo wR="21600" hR="8875" stAng="-154397" swAng="-5245603"/>
                <a:close/>
              </a:path>
              <a:path fill="darkenLess" w="21600" h="21600">
                <a:moveTo>
                  <a:pt x="0" y="0"/>
                </a:moveTo>
                <a:arcTo wR="21600" hR="8875" stAng="-5400000" swAng="5400000"/>
                <a:lnTo>
                  <a:pt x="21600" y="10805"/>
                </a:lnTo>
                <a:arcTo wR="21600" hR="8875" stAng="0" swAng="-154397"/>
                <a:lnTo>
                  <a:pt x="21472" y="9840"/>
                </a:lnTo>
                <a:arcTo wR="21600" hR="8875" stAng="-154397" swAng="-5245603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3352680" y="38937600"/>
            <a:ext cx="1440000" cy="2514600"/>
          </a:xfrm>
          <a:custGeom>
            <a:avLst/>
            <a:gdLst>
              <a:gd name="textAreaLeft" fmla="*/ 192960 w 1440000"/>
              <a:gd name="textAreaRight" fmla="*/ 1247040 w 1440000"/>
              <a:gd name="textAreaTop" fmla="*/ 516240 h 2514600"/>
              <a:gd name="textAreaBottom" fmla="*/ 177408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875" stAng="-5400000" swAng="5400000"/>
                <a:lnTo>
                  <a:pt x="21600" y="10805"/>
                </a:lnTo>
                <a:arcTo wR="21600" hR="8875" stAng="0" swAng="2957321"/>
                <a:lnTo>
                  <a:pt x="7200" y="21092"/>
                </a:lnTo>
                <a:lnTo>
                  <a:pt x="0" y="18715"/>
                </a:lnTo>
                <a:lnTo>
                  <a:pt x="7200" y="15322"/>
                </a:lnTo>
                <a:lnTo>
                  <a:pt x="7200" y="17242"/>
                </a:lnTo>
                <a:arcTo wR="21600" hR="8875" stAng="2957321" swAng="-2802925"/>
                <a:lnTo>
                  <a:pt x="21472" y="9840"/>
                </a:lnTo>
                <a:arcTo wR="21600" hR="8875" stAng="-154397" swAng="-5245603"/>
                <a:close/>
              </a:path>
              <a:path fill="darkenLess" w="21600" h="21600">
                <a:moveTo>
                  <a:pt x="0" y="0"/>
                </a:moveTo>
                <a:arcTo wR="21600" hR="8875" stAng="-5400000" swAng="5400000"/>
                <a:lnTo>
                  <a:pt x="21600" y="10805"/>
                </a:lnTo>
                <a:arcTo wR="21600" hR="8875" stAng="0" swAng="-154397"/>
                <a:lnTo>
                  <a:pt x="21472" y="9840"/>
                </a:lnTo>
                <a:arcTo wR="21600" hR="8875" stAng="-154397" swAng="-5245603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3"/>
          <a:srcRect l="29933" t="0" r="29252" b="0"/>
          <a:stretch/>
        </p:blipFill>
        <p:spPr>
          <a:xfrm>
            <a:off x="28575000" y="15849720"/>
            <a:ext cx="3390840" cy="5410080"/>
          </a:xfrm>
          <a:prstGeom prst="rect">
            <a:avLst/>
          </a:prstGeom>
          <a:ln w="0">
            <a:noFill/>
          </a:ln>
        </p:spPr>
      </p:pic>
      <p:pic>
        <p:nvPicPr>
          <p:cNvPr id="72" name="dconjunto%20-%20vista%20posterior" descr=""/>
          <p:cNvPicPr/>
          <p:nvPr/>
        </p:nvPicPr>
        <p:blipFill>
          <a:blip r:embed="rId14"/>
          <a:srcRect l="32592" t="1974" r="16638" b="16578"/>
          <a:stretch/>
        </p:blipFill>
        <p:spPr>
          <a:xfrm>
            <a:off x="22479120" y="19354680"/>
            <a:ext cx="4317840" cy="4807080"/>
          </a:xfrm>
          <a:prstGeom prst="rect">
            <a:avLst/>
          </a:prstGeom>
          <a:ln w="0">
            <a:noFill/>
          </a:ln>
        </p:spPr>
      </p:pic>
      <p:pic>
        <p:nvPicPr>
          <p:cNvPr id="73" name="Conjunto%20completo%20dim" descr=""/>
          <p:cNvPicPr/>
          <p:nvPr/>
        </p:nvPicPr>
        <p:blipFill>
          <a:blip r:embed="rId15"/>
          <a:srcRect l="27437" t="0" r="21765" b="12766"/>
          <a:stretch/>
        </p:blipFill>
        <p:spPr>
          <a:xfrm>
            <a:off x="22402800" y="14325480"/>
            <a:ext cx="4317840" cy="4980240"/>
          </a:xfrm>
          <a:prstGeom prst="rect">
            <a:avLst/>
          </a:prstGeom>
          <a:ln w="0">
            <a:noFill/>
          </a:ln>
        </p:spPr>
      </p:pic>
      <p:pic>
        <p:nvPicPr>
          <p:cNvPr id="74" name="seta7" descr=""/>
          <p:cNvPicPr/>
          <p:nvPr/>
        </p:nvPicPr>
        <p:blipFill>
          <a:blip r:embed="rId16"/>
          <a:stretch/>
        </p:blipFill>
        <p:spPr>
          <a:xfrm>
            <a:off x="26746200" y="17221320"/>
            <a:ext cx="1800360" cy="1277640"/>
          </a:xfrm>
          <a:prstGeom prst="rect">
            <a:avLst/>
          </a:prstGeom>
          <a:ln w="0">
            <a:noFill/>
          </a:ln>
        </p:spPr>
      </p:pic>
      <p:pic>
        <p:nvPicPr>
          <p:cNvPr id="75" name="seta8" descr=""/>
          <p:cNvPicPr/>
          <p:nvPr/>
        </p:nvPicPr>
        <p:blipFill>
          <a:blip r:embed="rId17"/>
          <a:stretch/>
        </p:blipFill>
        <p:spPr>
          <a:xfrm>
            <a:off x="26822520" y="20345400"/>
            <a:ext cx="1800000" cy="1260360"/>
          </a:xfrm>
          <a:prstGeom prst="rect">
            <a:avLst/>
          </a:prstGeom>
          <a:ln w="0">
            <a:noFill/>
          </a:ln>
        </p:spPr>
      </p:pic>
      <p:pic>
        <p:nvPicPr>
          <p:cNvPr id="76" name="seta5" descr=""/>
          <p:cNvPicPr/>
          <p:nvPr/>
        </p:nvPicPr>
        <p:blipFill>
          <a:blip r:embed="rId18"/>
          <a:stretch/>
        </p:blipFill>
        <p:spPr>
          <a:xfrm>
            <a:off x="23774400" y="24612480"/>
            <a:ext cx="157176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4T21:59:25Z</dcterms:created>
  <dc:creator>Voltalab40</dc:creator>
  <dc:description/>
  <dc:language>en-US</dc:language>
  <cp:lastModifiedBy>Alunos GEA2</cp:lastModifiedBy>
  <dcterms:modified xsi:type="dcterms:W3CDTF">2002-09-16T20:40:18Z</dcterms:modified>
  <cp:revision>7</cp:revision>
  <dc:subject/>
  <dc:title>Slide sem título </dc:title>
</cp:coreProperties>
</file>