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4290000" cy="45720000"/>
  <p:notesSz cx="7105650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D6A8-F88B-4056-9912-22710F2AF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71840" y="4063680"/>
            <a:ext cx="29146320" cy="7620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5AA0-7054-48A0-9F23-74F9B595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71840" y="4063680"/>
            <a:ext cx="29146320" cy="7620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F6DA-1B08-447F-A4E4-57EA623E5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71840" y="4063680"/>
            <a:ext cx="29146320" cy="7620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42648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28076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7184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42648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228076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B6DA-8CE2-4C81-9695-2816DDBBE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71840" y="4063680"/>
            <a:ext cx="29146320" cy="7620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0"/>
              </a:spcBef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B337-E9DF-4F3B-9D79-61AD51D6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71840" y="4063680"/>
            <a:ext cx="29146320" cy="7620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F00A-647D-4747-8BB3-AB8C4612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71840" y="4063680"/>
            <a:ext cx="29146320" cy="7620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3198-5D61-429B-84E4-097A6EF5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71840" y="4063680"/>
            <a:ext cx="29146320" cy="7620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56F3-8857-498E-AFB9-D758EAD0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71840" y="4063680"/>
            <a:ext cx="29146320" cy="3532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592E-D9D6-4128-B9A6-10F6818E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71840" y="4063680"/>
            <a:ext cx="29146320" cy="7620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2763-088F-4C3D-9D76-9243AAD5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71840" y="4063680"/>
            <a:ext cx="29146320" cy="7620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12AF-1208-4B4A-8F82-354BF36F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71840" y="4063680"/>
            <a:ext cx="29146320" cy="7620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70AC-9DD1-46E3-91AC-BAA7E8E6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71840" y="4063680"/>
            <a:ext cx="29146320" cy="7620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r>
              <a:rPr b="0" lang="en-US" sz="2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marL="1714680" indent="-1714680">
              <a:spcBef>
                <a:spcPts val="40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0"/>
                <a:tab algn="l" pos="91440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14840" indent="-1428840">
              <a:spcBef>
                <a:spcPts val="40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0"/>
                <a:tab algn="l" pos="91440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5000" indent="-1143000">
              <a:spcBef>
                <a:spcPts val="40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0"/>
                <a:tab algn="l" pos="91440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  <a:p>
            <a:pPr lvl="3" marL="8001000" indent="-1143000">
              <a:spcBef>
                <a:spcPts val="40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0"/>
                <a:tab algn="l" pos="91440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  <a:p>
            <a:pPr lvl="4" marL="10287000" indent="-1143000">
              <a:spcBef>
                <a:spcPts val="40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0"/>
                <a:tab algn="l" pos="91440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  <a:p>
            <a:pPr lvl="5" marL="10287000" indent="-1143000">
              <a:spcBef>
                <a:spcPts val="40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0"/>
                <a:tab algn="l" pos="91440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  <a:p>
            <a:pPr lvl="6" marL="10287000" indent="-1143000">
              <a:spcBef>
                <a:spcPts val="40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0"/>
                <a:tab algn="l" pos="91440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71840" y="41655600"/>
            <a:ext cx="714384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>
              <a:buNone/>
              <a:tabLst>
                <a:tab algn="l" pos="0"/>
                <a:tab algn="l" pos="4572000"/>
                <a:tab algn="l" pos="9144000"/>
              </a:tabLst>
              <a:defRPr b="0" lang="en-US" sz="7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0"/>
                <a:tab algn="l" pos="91440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715840" y="41655600"/>
            <a:ext cx="1085832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 algn="ctr">
              <a:buNone/>
              <a:tabLst>
                <a:tab algn="l" pos="0"/>
                <a:tab algn="l" pos="4572000"/>
                <a:tab algn="l" pos="9144000"/>
              </a:tabLst>
              <a:defRPr b="0" lang="en-US" sz="7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4574320" y="41655600"/>
            <a:ext cx="714348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 algn="r">
              <a:buNone/>
              <a:tabLst>
                <a:tab algn="l" pos="0"/>
                <a:tab algn="l" pos="4572000"/>
                <a:tab algn="l" pos="9144000"/>
              </a:tabLst>
              <a:defRPr b="0" lang="en-US" sz="7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0"/>
                <a:tab algn="l" pos="9144000"/>
              </a:tabLst>
            </a:pPr>
            <a:fld id="{15B82AAF-6142-4159-AC6D-402A2E71B553}" type="slidenum"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1080" y="1905120"/>
            <a:ext cx="3032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362320" y="274320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686800" y="2514600"/>
            <a:ext cx="18745200" cy="28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80"/>
                </a:solidFill>
                <a:latin typeface="Arial Narrow"/>
                <a:ea typeface="Times New Roman"/>
              </a:rPr>
              <a:t>PROGRAMA DE RECURSOS HUMANOS DA ANP PARA O SETOR PETRÓLEO E GÁ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80"/>
                </a:solidFill>
                <a:latin typeface="Arial Narrow"/>
                <a:ea typeface="Times New Roman"/>
              </a:rPr>
              <a:t>(PRH - ANP/MCT)</a:t>
            </a:r>
            <a:r>
              <a:rPr b="0" lang="pt-BR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8422720" y="1219320"/>
            <a:ext cx="3230280" cy="5257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76720" y="5638680"/>
            <a:ext cx="2849868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Arial Narrow"/>
                <a:ea typeface="Courier New"/>
              </a:rPr>
              <a:t>PRH 24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grama Interdisciplinar em Engenharia de Petróleo e Gás Natural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7772400"/>
            <a:ext cx="30022560" cy="4565160"/>
          </a:xfrm>
          <a:prstGeom prst="rect">
            <a:avLst/>
          </a:prstGeom>
          <a:noFill/>
          <a:ln w="792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Arial"/>
                <a:ea typeface="Arial"/>
              </a:rPr>
              <a:t>Estudo da influência de propriedades de filmes de polissulfetos de ferro no comportamento eletroquímico do aço em unidades de FCC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Bolsista: Patrícia Raquel Silv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Orientador: Prof. Dr. Haroldo de Araújo Ponte (UFPR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22655160"/>
            <a:ext cx="15316200" cy="62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pt-BR" sz="3000" spc="-1" strike="noStrike">
                <a:solidFill>
                  <a:srgbClr val="000000"/>
                </a:solidFill>
                <a:latin typeface="Arial"/>
              </a:rPr>
              <a:t>longo prazo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(projeto MONITOR) 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Desenvolver novo método de monitoramento 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on-line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da corrosão em meio de sulfetos, baseado na avaliação da integridade do filme de sulfeto de ferro formado sobre aço utilizando técnicas convencionais de polarização voltamétrica cíclica. Este método possibilitará a inibição em tempo real do processo de degradação do filme por cianetos antes de permeação significativa de hidrogênio na estrutura metálica, aumentando assim a vida útil e a confiabilidade dos equipament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pt-BR" sz="3000" spc="-1" strike="noStrike">
                <a:solidFill>
                  <a:srgbClr val="000000"/>
                </a:solidFill>
                <a:latin typeface="Arial"/>
              </a:rPr>
              <a:t>curto prazo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 (dissertação de mestrado) 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valiar a viabilidade da aplicação da técnica de voltametria cíclica para detecção da destruição do filme de sulfeto de ferro pelo cianet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58280" y="29260800"/>
            <a:ext cx="717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ÉTODO EXPERIM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7642680"/>
            <a:ext cx="14401800" cy="15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ULTADOS E DISCUSS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1000ppm" descr=""/>
          <p:cNvPicPr/>
          <p:nvPr/>
        </p:nvPicPr>
        <p:blipFill>
          <a:blip r:embed="rId3"/>
          <a:srcRect l="7281" t="8576" r="11493" b="4125"/>
          <a:stretch/>
        </p:blipFill>
        <p:spPr>
          <a:xfrm>
            <a:off x="4005360" y="39166920"/>
            <a:ext cx="4681440" cy="387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" name="Faixa de potencial2" descr=""/>
          <p:cNvPicPr/>
          <p:nvPr/>
        </p:nvPicPr>
        <p:blipFill>
          <a:blip r:embed="rId4"/>
          <a:srcRect l="8201" t="8214" r="9512" b="3727"/>
          <a:stretch/>
        </p:blipFill>
        <p:spPr>
          <a:xfrm>
            <a:off x="9677520" y="39124080"/>
            <a:ext cx="4743360" cy="392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17830800" y="22709160"/>
            <a:ext cx="15087600" cy="45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CONCLUSÕ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 adição de 1000 ppm de cianeto provocou alteração significativa nas curvas de voltametria </a:t>
            </a:r>
            <a:r>
              <a:rPr b="0" lang="pt-BR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lang="pt-BR" sz="3000" spc="-1" strike="noStrike" baseline="-25000">
                <a:solidFill>
                  <a:srgbClr val="000000"/>
                </a:solidFill>
                <a:latin typeface="Arial"/>
              </a:rPr>
              <a:t>passivação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coerente com o princípio da técnica de medida de porosidade DAV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Resultados indicam a viabilidade do método para detecção do processo de deterioração da película protetora de sulfeto por ação do cianeto </a:t>
            </a:r>
            <a:r>
              <a:rPr b="0" lang="pt-BR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desenvolvimento de técnica para monitoramento dos processos de corrosão presentes em vasos das unidades de FCC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830800" y="27203400"/>
            <a:ext cx="15163920" cy="125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ATIVIDADES FUTU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Verificar viabilidade da técnica em escala piloto 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igura 2 - Visão geral do vaso piloto de testes já instalado na PETROBRAS / S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Testar estabilização do filme com formação por tempo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Executar testes de lab. utilizando célula de fluxo </a:t>
            </a:r>
            <a:r>
              <a:rPr b="0" lang="pt-BR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renovação da solução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nalisar influência de outros fatores na voltametria (T, pH, [H</a:t>
            </a:r>
            <a:r>
              <a:rPr b="0" lang="pt-BR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], [CO</a:t>
            </a:r>
            <a:r>
              <a:rPr b="0" lang="pt-BR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], [Cl</a:t>
            </a:r>
            <a:r>
              <a:rPr b="0" lang="pt-BR" sz="3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], [O</a:t>
            </a:r>
            <a:r>
              <a:rPr b="0" lang="pt-BR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], etc.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Determinar parâmetros ótimos para a aplicação da técnica (velocidade de varredura, faixa de potencial, tempo de espera, critérios de estabilização da curva, etc.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Definir variáveis de controle que seriam utilizadas para monitoramento (i</a:t>
            </a:r>
            <a:r>
              <a:rPr b="0" lang="pt-BR" sz="3000" spc="-1" strike="noStrike" baseline="-25000">
                <a:solidFill>
                  <a:srgbClr val="000000"/>
                </a:solidFill>
                <a:latin typeface="Arial"/>
              </a:rPr>
              <a:t>pico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pt-BR" sz="3000" spc="-1" strike="noStrike" baseline="-25000">
                <a:solidFill>
                  <a:srgbClr val="000000"/>
                </a:solidFill>
                <a:latin typeface="Arial"/>
              </a:rPr>
              <a:t>pico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pt-BR" sz="3000" spc="-1" strike="noStrike" baseline="-25000">
                <a:solidFill>
                  <a:srgbClr val="000000"/>
                </a:solidFill>
                <a:latin typeface="Arial"/>
              </a:rPr>
              <a:t>passivação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ou outra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omparar resposta da técnica proposta X resposta de sensores de hidrogênio frente a adições de diferentes [CN</a:t>
            </a:r>
            <a:r>
              <a:rPr b="0" lang="pt-BR" sz="3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] 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Definir valor crítico da variável de controle na técnica de voltametria a partir do qual se observa permeação de hidrogênio </a:t>
            </a:r>
            <a:r>
              <a:rPr b="0" lang="pt-BR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set-point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para monitoramento </a:t>
            </a:r>
            <a:r>
              <a:rPr b="0" lang="pt-BR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acionamento da injeção de inibidores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2155120" y="29438640"/>
            <a:ext cx="6419520" cy="3784680"/>
            <a:chOff x="22155120" y="29438640"/>
            <a:chExt cx="6419520" cy="3784680"/>
          </a:xfrm>
        </p:grpSpPr>
        <p:pic>
          <p:nvPicPr>
            <p:cNvPr id="55" name="" descr=""/>
            <p:cNvPicPr/>
            <p:nvPr/>
          </p:nvPicPr>
          <p:blipFill>
            <a:blip r:embed="rId5"/>
            <a:stretch/>
          </p:blipFill>
          <p:spPr>
            <a:xfrm>
              <a:off x="22155120" y="29438640"/>
              <a:ext cx="2781000" cy="378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Mvc-014f" descr=""/>
            <p:cNvPicPr/>
            <p:nvPr/>
          </p:nvPicPr>
          <p:blipFill>
            <a:blip r:embed="rId6"/>
            <a:stretch/>
          </p:blipFill>
          <p:spPr>
            <a:xfrm>
              <a:off x="25774560" y="29438640"/>
              <a:ext cx="2800080" cy="378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"/>
          <p:cNvSpPr/>
          <p:nvPr/>
        </p:nvSpPr>
        <p:spPr>
          <a:xfrm>
            <a:off x="17754480" y="39639960"/>
            <a:ext cx="15087600" cy="55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AGRADECIMEN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À </a:t>
            </a:r>
            <a:r>
              <a:rPr b="0" lang="pt-BR" sz="3000" spc="-1" strike="noStrike">
                <a:solidFill>
                  <a:srgbClr val="000099"/>
                </a:solidFill>
                <a:latin typeface="Arial"/>
              </a:rPr>
              <a:t>Agência Nacional do Petróleo (ANP)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pela concessão de bolsa de mestrado vinculada ao PRH 24 -ANP/MME/METC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o </a:t>
            </a:r>
            <a:r>
              <a:rPr b="0" lang="pt-BR" sz="3000" spc="-1" strike="noStrike">
                <a:solidFill>
                  <a:srgbClr val="000099"/>
                </a:solidFill>
                <a:latin typeface="Arial"/>
              </a:rPr>
              <a:t>CTPETRO/FINEP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, que tem subsidiado o projeto MONITOR (aprovado no edital nº 3 – Ref. FINEP 1122/00, nº 33), pelo qual foram adquiridos diversos materiais utilizados neste trabalho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à </a:t>
            </a:r>
            <a:r>
              <a:rPr b="0" lang="pt-BR" sz="3000" spc="-1" strike="noStrike">
                <a:solidFill>
                  <a:srgbClr val="000099"/>
                </a:solidFill>
                <a:latin typeface="Arial"/>
              </a:rPr>
              <a:t>PETROBRAS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(especialmente à Unidade de Negócio</a:t>
            </a:r>
            <a:r>
              <a:rPr b="0" lang="pt-BR" sz="3000" spc="-1" strike="noStrike">
                <a:solidFill>
                  <a:srgbClr val="000099"/>
                </a:solidFill>
                <a:latin typeface="Arial"/>
              </a:rPr>
              <a:t> SIX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3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pelo envolvimento, apoio técnico e participação com contrapartida no projeto MONITOR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os integrantes do </a:t>
            </a:r>
            <a:r>
              <a:rPr b="0" lang="pt-BR" sz="3000" spc="-1" strike="noStrike">
                <a:solidFill>
                  <a:srgbClr val="000099"/>
                </a:solidFill>
                <a:latin typeface="Arial"/>
              </a:rPr>
              <a:t>Grupo de Eletroquímica Aplicada (GEA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767280" y="12649320"/>
            <a:ext cx="412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ÇÃ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0" y="13563720"/>
            <a:ext cx="12268080" cy="64260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ROLE E MONITORA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0574000" y="15324120"/>
            <a:ext cx="5334120" cy="2390040"/>
            <a:chOff x="20574000" y="15324120"/>
            <a:chExt cx="5334120" cy="2390040"/>
          </a:xfrm>
        </p:grpSpPr>
        <p:sp>
          <p:nvSpPr>
            <p:cNvPr id="61" name=""/>
            <p:cNvSpPr/>
            <p:nvPr/>
          </p:nvSpPr>
          <p:spPr>
            <a:xfrm>
              <a:off x="20574000" y="15324120"/>
              <a:ext cx="5334120" cy="239004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MONITORAMENTO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751"/>
                </a:spcAft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Sensores de Hidrogênio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751"/>
                </a:spcAft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Ruído Eletroquímico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751"/>
                </a:spcAft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Impedância Eletroquímic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574000" y="16085880"/>
              <a:ext cx="5334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0650320" y="18319680"/>
            <a:ext cx="5105160" cy="2980440"/>
            <a:chOff x="20650320" y="18319680"/>
            <a:chExt cx="5105160" cy="2980440"/>
          </a:xfrm>
        </p:grpSpPr>
        <p:sp>
          <p:nvSpPr>
            <p:cNvPr id="64" name=""/>
            <p:cNvSpPr/>
            <p:nvPr/>
          </p:nvSpPr>
          <p:spPr>
            <a:xfrm>
              <a:off x="20650320" y="18319680"/>
              <a:ext cx="5105160" cy="298044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300"/>
                </a:spcAft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000000"/>
                  </a:solidFill>
                  <a:latin typeface="Arial"/>
                </a:rPr>
                <a:t>MEDIDAS DE CONTROL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000000"/>
                  </a:solidFill>
                  <a:latin typeface="Arial"/>
                </a:rPr>
                <a:t>- Polissulfeto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000000"/>
                  </a:solidFill>
                  <a:latin typeface="Arial"/>
                </a:rPr>
                <a:t>- Peróxido de Hidrogênio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000000"/>
                  </a:solidFill>
                  <a:latin typeface="Arial"/>
                </a:rPr>
                <a:t>- A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000000"/>
                  </a:solidFill>
                  <a:latin typeface="Arial"/>
                </a:rPr>
                <a:t>- Compostos orgânico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650320" y="19081800"/>
              <a:ext cx="50828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743200" y="14401800"/>
            <a:ext cx="7010280" cy="1981080"/>
            <a:chOff x="2743200" y="14401800"/>
            <a:chExt cx="7010280" cy="1981080"/>
          </a:xfrm>
        </p:grpSpPr>
        <p:sp>
          <p:nvSpPr>
            <p:cNvPr id="67" name=""/>
            <p:cNvSpPr/>
            <p:nvPr/>
          </p:nvSpPr>
          <p:spPr>
            <a:xfrm>
              <a:off x="2743200" y="14401800"/>
              <a:ext cx="7010280" cy="19810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1. Formação do íon bissulfeto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Arial"/>
                </a:rPr>
                <a:t>NH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0" lang="en-US" sz="30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30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(NH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)HS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NH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0" lang="en-US" sz="3000" spc="-1" strike="noStrike">
                  <a:solidFill>
                    <a:srgbClr val="ff00ff"/>
                  </a:solidFill>
                  <a:latin typeface="Arial"/>
                </a:rPr>
                <a:t>HS</a:t>
              </a:r>
              <a:r>
                <a:rPr b="0" lang="en-US" sz="3000" spc="-1" strike="noStrike" baseline="30000">
                  <a:solidFill>
                    <a:srgbClr val="ff00ff"/>
                  </a:solidFill>
                  <a:latin typeface="Arial"/>
                </a:rPr>
                <a:t>-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0" lang="en-US" sz="3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30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H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en-US" sz="3000" spc="-1" strike="noStrike">
                  <a:solidFill>
                    <a:srgbClr val="ff00ff"/>
                  </a:solidFill>
                  <a:latin typeface="Arial"/>
                </a:rPr>
                <a:t>HS</a:t>
              </a:r>
              <a:r>
                <a:rPr b="0" lang="en-US" sz="3000" spc="-1" strike="noStrike" baseline="30000">
                  <a:solidFill>
                    <a:srgbClr val="ff00ff"/>
                  </a:solidFill>
                  <a:latin typeface="Arial"/>
                </a:rPr>
                <a:t>-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43200" y="15094080"/>
              <a:ext cx="7010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5791320" y="16382880"/>
            <a:ext cx="99036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0210680" y="14325480"/>
            <a:ext cx="9982440" cy="4267080"/>
            <a:chOff x="10210680" y="14325480"/>
            <a:chExt cx="9982440" cy="4267080"/>
          </a:xfrm>
        </p:grpSpPr>
        <p:sp>
          <p:nvSpPr>
            <p:cNvPr id="71" name=""/>
            <p:cNvSpPr/>
            <p:nvPr/>
          </p:nvSpPr>
          <p:spPr>
            <a:xfrm>
              <a:off x="10210680" y="14325480"/>
              <a:ext cx="9982440" cy="42670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74760" indent="-37476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4760" indent="-3747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000000"/>
                  </a:solidFill>
                  <a:latin typeface="Arial"/>
                </a:rPr>
                <a:t>2.1 Permeação de hidrogênio atômico (H</a:t>
              </a:r>
              <a:r>
                <a:rPr b="0" lang="pt-BR" sz="30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pt-BR" sz="3000" spc="-1" strike="noStrike">
                  <a:solidFill>
                    <a:srgbClr val="000000"/>
                  </a:solidFill>
                  <a:latin typeface="Arial"/>
                </a:rPr>
                <a:t>) no vaso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4760" indent="-374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4760" indent="-374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000000"/>
                  </a:solidFill>
                  <a:latin typeface="Arial"/>
                </a:rPr>
                <a:t>Pode penetrar no aço e causar danos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4760" indent="-37476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000000"/>
                  </a:solidFill>
                  <a:latin typeface="Arial"/>
                </a:rPr>
                <a:t>- Trinca Induzida por Empolamento de Hidrogênio (HBIC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4760" indent="-37476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000000"/>
                  </a:solidFill>
                  <a:latin typeface="Arial"/>
                </a:rPr>
                <a:t>- Trinca Induzida por Hidrogênio (HIC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4760" indent="-374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000000"/>
                  </a:solidFill>
                  <a:latin typeface="Arial"/>
                </a:rPr>
                <a:t>- Trinca Orientada por Tensões e Induzida por Hidrogênio (SOHIC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4760" indent="-37476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000000"/>
                  </a:solidFill>
                  <a:latin typeface="Arial"/>
                </a:rPr>
                <a:t>- Trinca sob Tensão provocada por Sulfeto (SSC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4760" indent="-374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210680" y="15163560"/>
              <a:ext cx="9982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981080" y="19735920"/>
            <a:ext cx="8229600" cy="2438280"/>
            <a:chOff x="1981080" y="19735920"/>
            <a:chExt cx="8229600" cy="2438280"/>
          </a:xfrm>
        </p:grpSpPr>
        <p:sp>
          <p:nvSpPr>
            <p:cNvPr id="74" name=""/>
            <p:cNvSpPr/>
            <p:nvPr/>
          </p:nvSpPr>
          <p:spPr>
            <a:xfrm>
              <a:off x="1981080" y="19735920"/>
              <a:ext cx="8229600" cy="24382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000000"/>
                  </a:solidFill>
                  <a:latin typeface="Arial"/>
                </a:rPr>
                <a:t>3. Destruição do filme pelo cianeto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008000"/>
                  </a:solidFill>
                  <a:latin typeface="Arial"/>
                </a:rPr>
                <a:t>FeS</a:t>
              </a:r>
              <a:r>
                <a:rPr b="0" lang="pt-BR" sz="3000" spc="-1" strike="noStrike">
                  <a:solidFill>
                    <a:srgbClr val="000000"/>
                  </a:solidFill>
                  <a:latin typeface="Arial"/>
                </a:rPr>
                <a:t> + 6  </a:t>
              </a:r>
              <a:r>
                <a:rPr b="0" lang="pt-BR" sz="3000" spc="-1" strike="noStrike">
                  <a:solidFill>
                    <a:srgbClr val="ff0000"/>
                  </a:solidFill>
                  <a:latin typeface="Arial"/>
                </a:rPr>
                <a:t>CN</a:t>
              </a:r>
              <a:r>
                <a:rPr b="0" lang="pt-BR" sz="3000" spc="-1" strike="noStrike" baseline="30000">
                  <a:solidFill>
                    <a:srgbClr val="ff0000"/>
                  </a:solidFill>
                  <a:latin typeface="Arial"/>
                </a:rPr>
                <a:t>- </a:t>
              </a:r>
              <a:r>
                <a:rPr b="0" lang="pt-BR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pt-BR" sz="3000" spc="-1" strike="noStrike">
                  <a:solidFill>
                    <a:srgbClr val="000000"/>
                  </a:solidFill>
                  <a:latin typeface="Arial"/>
                </a:rPr>
                <a:t> Fe(CN)</a:t>
              </a:r>
              <a:r>
                <a:rPr b="0" lang="pt-BR" sz="30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pt-BR" sz="3000" spc="-1" strike="noStrike" baseline="30000">
                  <a:solidFill>
                    <a:srgbClr val="000000"/>
                  </a:solidFill>
                  <a:latin typeface="Arial"/>
                </a:rPr>
                <a:t>4-</a:t>
              </a:r>
              <a:r>
                <a:rPr b="0" lang="pt-BR" sz="3000" spc="-1" strike="noStrike">
                  <a:solidFill>
                    <a:srgbClr val="000000"/>
                  </a:solidFill>
                  <a:latin typeface="Arial"/>
                </a:rPr>
                <a:t> + S</a:t>
              </a:r>
              <a:r>
                <a:rPr b="0" lang="pt-BR" sz="3000" spc="-1" strike="noStrike" baseline="30000">
                  <a:solidFill>
                    <a:srgbClr val="000000"/>
                  </a:solidFill>
                  <a:latin typeface="Arial"/>
                </a:rPr>
                <a:t>2-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000" spc="-1" strike="noStrike">
                  <a:solidFill>
                    <a:srgbClr val="000000"/>
                  </a:solidFill>
                  <a:latin typeface="Arial"/>
                </a:rPr>
                <a:t>Uma vez desestabilizada a película de FeS, o aço fica novamente exposto ao meio corrosivo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981080" y="20421720"/>
              <a:ext cx="8229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133720" y="13563720"/>
            <a:ext cx="18135360" cy="64260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ROSÃO EM VASOS DE UNIDADES DE FC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rot="5400000">
            <a:off x="1599480" y="18516240"/>
            <a:ext cx="1676520" cy="762120"/>
          </a:xfrm>
          <a:custGeom>
            <a:avLst/>
            <a:gdLst>
              <a:gd name="textAreaLeft" fmla="*/ 558720 w 1676520"/>
              <a:gd name="textAreaRight" fmla="*/ 1436040 w 1676520"/>
              <a:gd name="textAreaTop" fmla="*/ 438840 h 762120"/>
              <a:gd name="textAreaBottom" fmla="*/ 6530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0439280" y="18745200"/>
            <a:ext cx="9753840" cy="1905120"/>
            <a:chOff x="10439280" y="18745200"/>
            <a:chExt cx="9753840" cy="1905120"/>
          </a:xfrm>
        </p:grpSpPr>
        <p:sp>
          <p:nvSpPr>
            <p:cNvPr id="79" name=""/>
            <p:cNvSpPr/>
            <p:nvPr/>
          </p:nvSpPr>
          <p:spPr>
            <a:xfrm>
              <a:off x="10439280" y="18745200"/>
              <a:ext cx="9753840" cy="1905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2.2 Formação de filme superficial de sulfeto de ferro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Atua como barreira entre o aço e o meio agressivo, RETARDANDO O PROCESSO CORROSIVO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439280" y="19431000"/>
              <a:ext cx="9753840" cy="5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2819520" y="16916400"/>
            <a:ext cx="7010280" cy="2247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2. Ataque do bissulfeto ao aç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Fe </a:t>
            </a:r>
            <a:r>
              <a:rPr b="0" lang="pt-BR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pt-BR" sz="3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+  2 e</a:t>
            </a:r>
            <a:r>
              <a:rPr b="0" lang="pt-BR" sz="3000" spc="-1" strike="noStrike" baseline="30000">
                <a:solidFill>
                  <a:srgbClr val="000000"/>
                </a:solidFill>
                <a:latin typeface="Arial"/>
              </a:rPr>
              <a:t>-     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(anódic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00ff"/>
                </a:solidFill>
                <a:latin typeface="Arial"/>
              </a:rPr>
              <a:t>         </a:t>
            </a:r>
            <a:r>
              <a:rPr b="0" lang="pt-BR" sz="3000" spc="-1" strike="noStrike">
                <a:solidFill>
                  <a:srgbClr val="ff00ff"/>
                </a:solidFill>
                <a:latin typeface="Arial"/>
              </a:rPr>
              <a:t>HS</a:t>
            </a:r>
            <a:r>
              <a:rPr b="0" lang="pt-BR" sz="3000" spc="-1" strike="noStrike" baseline="30000">
                <a:solidFill>
                  <a:srgbClr val="ff00ff"/>
                </a:solidFill>
                <a:latin typeface="Arial"/>
              </a:rPr>
              <a:t>-</a:t>
            </a:r>
            <a:r>
              <a:rPr b="0" lang="pt-BR" sz="3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+ e</a:t>
            </a:r>
            <a:r>
              <a:rPr b="0" lang="pt-BR" sz="30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pt-BR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3000" spc="-1" strike="noStrike">
                <a:solidFill>
                  <a:srgbClr val="000099"/>
                </a:solidFill>
                <a:latin typeface="Arial"/>
              </a:rPr>
              <a:t>H</a:t>
            </a:r>
            <a:r>
              <a:rPr b="0" lang="pt-BR" sz="30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  + S</a:t>
            </a:r>
            <a:r>
              <a:rPr b="0" lang="pt-BR" sz="30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pt-BR" sz="30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(catódic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pt-BR" sz="3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pt-BR" sz="3000" spc="-1" strike="noStrike">
                <a:solidFill>
                  <a:srgbClr val="ff00ff"/>
                </a:solidFill>
                <a:latin typeface="Arial"/>
              </a:rPr>
              <a:t>HS</a:t>
            </a:r>
            <a:r>
              <a:rPr b="0" lang="pt-BR" sz="3000" spc="-1" strike="noStrike" baseline="30000">
                <a:solidFill>
                  <a:srgbClr val="ff00ff"/>
                </a:solidFill>
                <a:latin typeface="Arial"/>
              </a:rPr>
              <a:t>-</a:t>
            </a:r>
            <a:r>
              <a:rPr b="0" lang="pt-BR" sz="3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3000" spc="-1" strike="noStrike">
                <a:solidFill>
                  <a:srgbClr val="008000"/>
                </a:solidFill>
                <a:latin typeface="Arial"/>
              </a:rPr>
              <a:t> Fe</a:t>
            </a:r>
            <a:r>
              <a:rPr b="0" lang="pt-BR" sz="3000" spc="-1" strike="noStrike" baseline="-25000">
                <a:solidFill>
                  <a:srgbClr val="008000"/>
                </a:solidFill>
                <a:latin typeface="Arial"/>
              </a:rPr>
              <a:t>x</a:t>
            </a:r>
            <a:r>
              <a:rPr b="0" lang="pt-BR" sz="3000" spc="-1" strike="noStrike">
                <a:solidFill>
                  <a:srgbClr val="008000"/>
                </a:solidFill>
                <a:latin typeface="Arial"/>
              </a:rPr>
              <a:t>S</a:t>
            </a:r>
            <a:r>
              <a:rPr b="0" lang="pt-BR" sz="3000" spc="-1" strike="noStrike" baseline="-25000">
                <a:solidFill>
                  <a:srgbClr val="008000"/>
                </a:solidFill>
                <a:latin typeface="Arial"/>
              </a:rPr>
              <a:t>y 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pt-BR" sz="3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19520" y="17602200"/>
            <a:ext cx="7010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18135720"/>
            <a:ext cx="609480" cy="45720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41960" y="18562680"/>
            <a:ext cx="1219320" cy="6094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19164240"/>
            <a:ext cx="99036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3" idx="6"/>
            <a:endCxn id="71" idx="1"/>
          </p:cNvCxnSpPr>
          <p:nvPr/>
        </p:nvCxnSpPr>
        <p:spPr>
          <a:xfrm flipV="1">
            <a:off x="6400800" y="16458840"/>
            <a:ext cx="3810240" cy="190584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87" name=""/>
          <p:cNvCxnSpPr/>
          <p:nvPr/>
        </p:nvCxnSpPr>
        <p:spPr>
          <a:xfrm>
            <a:off x="7243560" y="19018080"/>
            <a:ext cx="3231000" cy="58968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sp>
        <p:nvSpPr>
          <p:cNvPr id="88" name=""/>
          <p:cNvSpPr/>
          <p:nvPr/>
        </p:nvSpPr>
        <p:spPr>
          <a:xfrm>
            <a:off x="22707720" y="17754480"/>
            <a:ext cx="99036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212680" y="15239880"/>
            <a:ext cx="6553440" cy="6347880"/>
          </a:xfrm>
          <a:prstGeom prst="rect">
            <a:avLst/>
          </a:prstGeom>
          <a:solidFill>
            <a:srgbClr val="ffffff"/>
          </a:solidFill>
          <a:ln cap="sq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Técnica de monitoramen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propos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Inspirada na técnica DAV (Dissolução Anódica Voltamétrica) de medida de porosidade (</a:t>
            </a:r>
            <a:r>
              <a:rPr b="0" lang="pt-BR" sz="3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) 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de um revestimento </a:t>
            </a:r>
            <a:r>
              <a:rPr b="0" lang="pt-BR" sz="3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pt-BR" sz="3000" spc="-1" strike="noStrike" baseline="-25000">
                <a:solidFill>
                  <a:srgbClr val="000000"/>
                </a:solidFill>
                <a:latin typeface="Arial"/>
              </a:rPr>
              <a:t>passivaçã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onsiderando que o ataque do CN- gera descontinuidades no filme de Fe</a:t>
            </a:r>
            <a:r>
              <a:rPr b="0" lang="pt-BR" sz="3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3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voltametria </a:t>
            </a:r>
            <a:r>
              <a:rPr b="0" lang="pt-BR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ataque  </a:t>
            </a:r>
            <a:r>
              <a:rPr b="0" lang="pt-BR" sz="3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pt-BR" sz="3000" spc="-1" strike="noStrike" baseline="-25000">
                <a:solidFill>
                  <a:srgbClr val="000000"/>
                </a:solidFill>
                <a:latin typeface="Arial"/>
              </a:rPr>
              <a:t>passivaçã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212680" y="16230600"/>
            <a:ext cx="65534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069680" y="14628960"/>
            <a:ext cx="2630520" cy="687240"/>
          </a:xfrm>
          <a:custGeom>
            <a:avLst/>
            <a:gdLst>
              <a:gd name="textAreaLeft" fmla="*/ 460080 w 2630520"/>
              <a:gd name="textAreaRight" fmla="*/ 1907280 w 2630520"/>
              <a:gd name="textAreaTop" fmla="*/ 91800 h 687240"/>
              <a:gd name="textAreaBottom" fmla="*/ 595440 h 687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_Assinaturas%20Simples" descr=""/>
          <p:cNvPicPr/>
          <p:nvPr/>
        </p:nvPicPr>
        <p:blipFill>
          <a:blip r:embed="rId7"/>
          <a:stretch/>
        </p:blipFill>
        <p:spPr>
          <a:xfrm>
            <a:off x="2133720" y="1279440"/>
            <a:ext cx="6476760" cy="1235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981080" y="43129080"/>
            <a:ext cx="153925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igura 1 – Voltametrias cíclicas em solução de Na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 0,05 M até estabilização da curva com posterior adição de 1000 ppm de CN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a) de –1400 mV até – 400 mV e (b) de –1200 mV até –500 mV (vs. Ag/AgCl – sat. KC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782880" y="30522960"/>
            <a:ext cx="10771200" cy="6586560"/>
            <a:chOff x="3782880" y="30522960"/>
            <a:chExt cx="10771200" cy="6586560"/>
          </a:xfrm>
        </p:grpSpPr>
        <p:sp>
          <p:nvSpPr>
            <p:cNvPr id="95" name=""/>
            <p:cNvSpPr/>
            <p:nvPr/>
          </p:nvSpPr>
          <p:spPr>
            <a:xfrm>
              <a:off x="3782880" y="30522960"/>
              <a:ext cx="10771200" cy="65865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" name="celula_color" descr=""/>
            <p:cNvPicPr/>
            <p:nvPr/>
          </p:nvPicPr>
          <p:blipFill>
            <a:blip r:embed="rId8"/>
            <a:srcRect l="0" t="16502" r="0" b="-602"/>
            <a:stretch/>
          </p:blipFill>
          <p:spPr>
            <a:xfrm>
              <a:off x="5899320" y="30614760"/>
              <a:ext cx="6246720" cy="6477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7" name=""/>
            <p:cNvGrpSpPr/>
            <p:nvPr/>
          </p:nvGrpSpPr>
          <p:grpSpPr>
            <a:xfrm>
              <a:off x="11382480" y="32088240"/>
              <a:ext cx="2790000" cy="2429640"/>
              <a:chOff x="11382480" y="32088240"/>
              <a:chExt cx="2790000" cy="242964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1382480" y="32088240"/>
                <a:ext cx="2790000" cy="2429640"/>
                <a:chOff x="11382480" y="32088240"/>
                <a:chExt cx="2790000" cy="24296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1382480" y="32520960"/>
                  <a:ext cx="2790000" cy="1996920"/>
                </a:xfrm>
                <a:prstGeom prst="cube">
                  <a:avLst>
                    <a:gd name="adj" fmla="val 38333"/>
                  </a:avLst>
                </a:prstGeom>
                <a:solidFill>
                  <a:srgbClr val="c0c0c0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1661840" y="32620680"/>
                  <a:ext cx="2222640" cy="565920"/>
                </a:xfrm>
                <a:prstGeom prst="parallelogram">
                  <a:avLst>
                    <a:gd name="adj" fmla="val 110388"/>
                  </a:avLst>
                </a:prstGeom>
                <a:solidFill>
                  <a:srgbClr val="caf4fe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2637800" y="32088240"/>
                  <a:ext cx="976320" cy="5324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c0c0c0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12777840" y="32335560"/>
                <a:ext cx="530640" cy="185760"/>
                <a:chOff x="12777840" y="32335560"/>
                <a:chExt cx="530640" cy="18576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12783600" y="32335560"/>
                  <a:ext cx="72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flipV="1">
                  <a:off x="12862080" y="32346360"/>
                  <a:ext cx="0" cy="67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2783600" y="32425560"/>
                  <a:ext cx="72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V="1">
                  <a:off x="12777840" y="32442120"/>
                  <a:ext cx="0" cy="67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2783600" y="32521320"/>
                  <a:ext cx="72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" name=""/>
                <p:cNvGrpSpPr/>
                <p:nvPr/>
              </p:nvGrpSpPr>
              <p:grpSpPr>
                <a:xfrm>
                  <a:off x="12928680" y="32335560"/>
                  <a:ext cx="84240" cy="185760"/>
                  <a:chOff x="12928680" y="32335560"/>
                  <a:chExt cx="84240" cy="18576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 flipH="1">
                    <a:off x="12934800" y="32335560"/>
                    <a:ext cx="723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12928680" y="32346360"/>
                    <a:ext cx="0" cy="673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>
                    <a:off x="12934800" y="32425560"/>
                    <a:ext cx="723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V="1">
                    <a:off x="13012920" y="32442120"/>
                    <a:ext cx="0" cy="673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 flipH="1">
                    <a:off x="12934800" y="32521320"/>
                    <a:ext cx="723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" name=""/>
                <p:cNvGrpSpPr/>
                <p:nvPr/>
              </p:nvGrpSpPr>
              <p:grpSpPr>
                <a:xfrm>
                  <a:off x="13061160" y="32340960"/>
                  <a:ext cx="102240" cy="90000"/>
                  <a:chOff x="13061160" y="32340960"/>
                  <a:chExt cx="102240" cy="900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 flipV="1">
                    <a:off x="13061160" y="32352120"/>
                    <a:ext cx="0" cy="67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13085280" y="32340960"/>
                    <a:ext cx="720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flipV="1">
                    <a:off x="13163400" y="32352120"/>
                    <a:ext cx="0" cy="67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13085280" y="32430960"/>
                    <a:ext cx="720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" name=""/>
                <p:cNvGrpSpPr/>
                <p:nvPr/>
              </p:nvGrpSpPr>
              <p:grpSpPr>
                <a:xfrm>
                  <a:off x="13218120" y="32340960"/>
                  <a:ext cx="90360" cy="174600"/>
                  <a:chOff x="13218120" y="32340960"/>
                  <a:chExt cx="90360" cy="17460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>
                    <a:off x="13236120" y="32340960"/>
                    <a:ext cx="723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13230000" y="32515560"/>
                    <a:ext cx="723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flipV="1">
                    <a:off x="13218120" y="32357520"/>
                    <a:ext cx="0" cy="67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flipV="1">
                    <a:off x="13218120" y="32436720"/>
                    <a:ext cx="0" cy="67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24" name=""/>
            <p:cNvSpPr/>
            <p:nvPr/>
          </p:nvSpPr>
          <p:spPr>
            <a:xfrm>
              <a:off x="11296440" y="33446880"/>
              <a:ext cx="2143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anh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ermostáti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911200" y="35813880"/>
              <a:ext cx="2158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élul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letroquím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419720" y="33527880"/>
              <a:ext cx="1730160" cy="1863720"/>
              <a:chOff x="4419720" y="33527880"/>
              <a:chExt cx="1730160" cy="1863720"/>
            </a:xfrm>
          </p:grpSpPr>
          <p:sp>
            <p:nvSpPr>
              <p:cNvPr id="127" name=""/>
              <p:cNvSpPr/>
              <p:nvPr/>
            </p:nvSpPr>
            <p:spPr>
              <a:xfrm>
                <a:off x="4419720" y="34491240"/>
                <a:ext cx="1346040" cy="900360"/>
              </a:xfrm>
              <a:prstGeom prst="cube">
                <a:avLst>
                  <a:gd name="adj" fmla="val 59615"/>
                </a:avLst>
              </a:prstGeom>
              <a:solidFill>
                <a:srgbClr val="80808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98880" y="34221600"/>
                <a:ext cx="866880" cy="360360"/>
              </a:xfrm>
              <a:prstGeom prst="cube">
                <a:avLst>
                  <a:gd name="adj" fmla="val 25000"/>
                </a:avLst>
              </a:prstGeom>
              <a:solidFill>
                <a:srgbClr val="aec6b3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"/>
              <p:cNvGrpSpPr/>
              <p:nvPr/>
            </p:nvGrpSpPr>
            <p:grpSpPr>
              <a:xfrm>
                <a:off x="4997520" y="34232760"/>
                <a:ext cx="1152360" cy="530280"/>
                <a:chOff x="4997520" y="34232760"/>
                <a:chExt cx="1152360" cy="530280"/>
              </a:xfrm>
            </p:grpSpPr>
            <p:grpSp>
              <p:nvGrpSpPr>
                <p:cNvPr id="130" name=""/>
                <p:cNvGrpSpPr/>
                <p:nvPr/>
              </p:nvGrpSpPr>
              <p:grpSpPr>
                <a:xfrm>
                  <a:off x="4997520" y="34367760"/>
                  <a:ext cx="576000" cy="187200"/>
                  <a:chOff x="4997520" y="34367760"/>
                  <a:chExt cx="576000" cy="18720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H="1">
                    <a:off x="5003640" y="34367760"/>
                    <a:ext cx="720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V="1">
                    <a:off x="4997520" y="34378920"/>
                    <a:ext cx="0" cy="684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flipH="1">
                    <a:off x="5003640" y="34458840"/>
                    <a:ext cx="720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flipV="1">
                    <a:off x="5082120" y="34475400"/>
                    <a:ext cx="0" cy="684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>
                    <a:off x="5003640" y="34554960"/>
                    <a:ext cx="720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 flipV="1">
                    <a:off x="5081400" y="34390440"/>
                    <a:ext cx="0" cy="684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5464080" y="34367760"/>
                    <a:ext cx="109440" cy="175320"/>
                    <a:chOff x="5464080" y="34367760"/>
                    <a:chExt cx="109440" cy="17532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5482080" y="34367760"/>
                      <a:ext cx="720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5487840" y="34543080"/>
                      <a:ext cx="720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 flipV="1">
                      <a:off x="5464080" y="34384680"/>
                      <a:ext cx="0" cy="67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880" bIns="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 flipV="1">
                      <a:off x="5464080" y="34463880"/>
                      <a:ext cx="0" cy="67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880" bIns="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 flipV="1">
                      <a:off x="5573520" y="34394760"/>
                      <a:ext cx="0" cy="684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 flipV="1">
                      <a:off x="5573520" y="34474320"/>
                      <a:ext cx="0" cy="684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4" name=""/>
                  <p:cNvGrpSpPr/>
                  <p:nvPr/>
                </p:nvGrpSpPr>
                <p:grpSpPr>
                  <a:xfrm>
                    <a:off x="5285160" y="34367760"/>
                    <a:ext cx="109440" cy="175320"/>
                    <a:chOff x="5285160" y="34367760"/>
                    <a:chExt cx="109440" cy="175320"/>
                  </a:xfrm>
                </p:grpSpPr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5303160" y="34367760"/>
                      <a:ext cx="720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5308920" y="34543080"/>
                      <a:ext cx="720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 flipV="1">
                      <a:off x="5285160" y="34384680"/>
                      <a:ext cx="0" cy="67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880" bIns="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" name=""/>
                    <p:cNvSpPr/>
                    <p:nvPr/>
                  </p:nvSpPr>
                  <p:spPr>
                    <a:xfrm flipV="1">
                      <a:off x="5285160" y="34463880"/>
                      <a:ext cx="0" cy="67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880" bIns="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 flipV="1">
                      <a:off x="5394600" y="34394760"/>
                      <a:ext cx="0" cy="684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 flipV="1">
                      <a:off x="5394600" y="34474320"/>
                      <a:ext cx="0" cy="684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51" name=""/>
                <p:cNvSpPr/>
                <p:nvPr/>
              </p:nvSpPr>
              <p:spPr>
                <a:xfrm>
                  <a:off x="4997520" y="34232760"/>
                  <a:ext cx="1152360" cy="53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" name=""/>
              <p:cNvSpPr/>
              <p:nvPr/>
            </p:nvSpPr>
            <p:spPr>
              <a:xfrm>
                <a:off x="4539240" y="33527880"/>
                <a:ext cx="1569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pH-metr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5120" y="34648560"/>
                <a:ext cx="147600" cy="138240"/>
              </a:xfrm>
              <a:prstGeom prst="ellipse">
                <a:avLst/>
              </a:prstGeom>
              <a:solidFill>
                <a:srgbClr val="aec6b3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187960" y="34648560"/>
                <a:ext cx="146160" cy="138240"/>
              </a:xfrm>
              <a:prstGeom prst="ellipse">
                <a:avLst/>
              </a:prstGeom>
              <a:solidFill>
                <a:srgbClr val="aec6b3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019840" y="34807320"/>
                <a:ext cx="147600" cy="136440"/>
              </a:xfrm>
              <a:prstGeom prst="ellipse">
                <a:avLst/>
              </a:prstGeom>
              <a:solidFill>
                <a:srgbClr val="aec6b3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32200" y="34807320"/>
                <a:ext cx="146160" cy="136440"/>
              </a:xfrm>
              <a:prstGeom prst="ellipse">
                <a:avLst/>
              </a:prstGeom>
              <a:solidFill>
                <a:srgbClr val="aec6b3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 flipH="1">
              <a:off x="8975880" y="35201160"/>
              <a:ext cx="1923840" cy="5396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820520" y="34823520"/>
              <a:ext cx="24300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olução aquos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e N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 0,05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9745560" y="35831160"/>
              <a:ext cx="384120" cy="181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9745200" y="36012600"/>
              <a:ext cx="384120" cy="177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176480" y="35676000"/>
              <a:ext cx="92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Águ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2" name="" descr=""/>
            <p:cNvPicPr/>
            <p:nvPr/>
          </p:nvPicPr>
          <p:blipFill>
            <a:blip r:embed="rId9"/>
            <a:stretch/>
          </p:blipFill>
          <p:spPr>
            <a:xfrm>
              <a:off x="3878280" y="32142240"/>
              <a:ext cx="4137120" cy="11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4975920" y="31483440"/>
              <a:ext cx="226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otenciostato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Galvanosta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261880" y="3128004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839080" y="31546800"/>
              <a:ext cx="3049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29560" y="31280040"/>
              <a:ext cx="685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EA  (P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067680" y="30784680"/>
              <a:ext cx="3049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106560" y="30708720"/>
              <a:ext cx="200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ER (Ag/AgCl – sat. KCl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448920" y="31165920"/>
              <a:ext cx="53316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598320" y="31241880"/>
              <a:ext cx="241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ET (aço carbono-AISI 102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1520" y="30708720"/>
              <a:ext cx="8380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59680" y="30708720"/>
              <a:ext cx="1244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Borbulhad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de N</a:t>
              </a:r>
              <a:r>
                <a:rPr b="0" lang="pt-BR" sz="1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7T17:12:06Z</dcterms:created>
  <dc:creator>MATERIAIS</dc:creator>
  <dc:description/>
  <dc:language>en-US</dc:language>
  <cp:lastModifiedBy>Alunos GEA2</cp:lastModifiedBy>
  <dcterms:modified xsi:type="dcterms:W3CDTF">2002-09-16T20:39:42Z</dcterms:modified>
  <cp:revision>48</cp:revision>
  <dc:subject/>
  <dc:title>Apresentação do PowerPoint</dc:title>
</cp:coreProperties>
</file>