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8098413" cy="34290000"/>
  <p:notesSz cx="6858000" cy="90281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70225-E98A-4D42-8E96-467F1682D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857680" y="3047760"/>
            <a:ext cx="32384880" cy="571500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ctr">
            <a:noAutofit/>
          </a:bodyPr>
          <a:p>
            <a:pPr indent="0" algn="ctr">
              <a:buNone/>
              <a:tabLst>
                <a:tab algn="l" pos="0"/>
                <a:tab algn="l" pos="4137120"/>
                <a:tab algn="l" pos="8273880"/>
              </a:tabLst>
            </a:pPr>
            <a:endParaRPr b="0" lang="en-US" sz="19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857680" y="9906120"/>
            <a:ext cx="32384880" cy="981360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indent="0">
              <a:spcBef>
                <a:spcPts val="3626"/>
              </a:spcBef>
              <a:buNone/>
              <a:tabLst>
                <a:tab algn="l" pos="4137120"/>
                <a:tab algn="l" pos="827388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857680" y="20652480"/>
            <a:ext cx="32384880" cy="981360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indent="0">
              <a:spcBef>
                <a:spcPts val="3626"/>
              </a:spcBef>
              <a:buNone/>
              <a:tabLst>
                <a:tab algn="l" pos="4137120"/>
                <a:tab algn="l" pos="827388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1B84E-C98E-4A92-90BE-48233E51C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857680" y="3047760"/>
            <a:ext cx="32384880" cy="571500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ctr">
            <a:noAutofit/>
          </a:bodyPr>
          <a:p>
            <a:pPr indent="0" algn="ctr">
              <a:buNone/>
              <a:tabLst>
                <a:tab algn="l" pos="0"/>
                <a:tab algn="l" pos="4137120"/>
                <a:tab algn="l" pos="8273880"/>
              </a:tabLst>
            </a:pPr>
            <a:endParaRPr b="0" lang="en-US" sz="19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857680" y="9906120"/>
            <a:ext cx="15803640" cy="981360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indent="0">
              <a:spcBef>
                <a:spcPts val="3626"/>
              </a:spcBef>
              <a:buNone/>
              <a:tabLst>
                <a:tab algn="l" pos="4137120"/>
                <a:tab algn="l" pos="827388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9451880" y="9906120"/>
            <a:ext cx="15803640" cy="981360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indent="0">
              <a:spcBef>
                <a:spcPts val="3626"/>
              </a:spcBef>
              <a:buNone/>
              <a:tabLst>
                <a:tab algn="l" pos="4137120"/>
                <a:tab algn="l" pos="827388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857680" y="20652480"/>
            <a:ext cx="15803640" cy="981360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indent="0">
              <a:spcBef>
                <a:spcPts val="3626"/>
              </a:spcBef>
              <a:buNone/>
              <a:tabLst>
                <a:tab algn="l" pos="4137120"/>
                <a:tab algn="l" pos="827388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9451880" y="20652480"/>
            <a:ext cx="15803640" cy="981360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indent="0">
              <a:spcBef>
                <a:spcPts val="3626"/>
              </a:spcBef>
              <a:buNone/>
              <a:tabLst>
                <a:tab algn="l" pos="4137120"/>
                <a:tab algn="l" pos="827388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75F49-3D69-4AE3-ADAF-5E02FC45D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857680" y="3047760"/>
            <a:ext cx="32384880" cy="571500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ctr">
            <a:noAutofit/>
          </a:bodyPr>
          <a:p>
            <a:pPr indent="0" algn="ctr">
              <a:buNone/>
              <a:tabLst>
                <a:tab algn="l" pos="0"/>
                <a:tab algn="l" pos="4137120"/>
                <a:tab algn="l" pos="8273880"/>
              </a:tabLst>
            </a:pPr>
            <a:endParaRPr b="0" lang="en-US" sz="19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857680" y="9906120"/>
            <a:ext cx="10427760" cy="981360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indent="0">
              <a:spcBef>
                <a:spcPts val="3626"/>
              </a:spcBef>
              <a:buNone/>
              <a:tabLst>
                <a:tab algn="l" pos="4137120"/>
                <a:tab algn="l" pos="827388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3807080" y="9906120"/>
            <a:ext cx="10427760" cy="981360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indent="0">
              <a:spcBef>
                <a:spcPts val="3626"/>
              </a:spcBef>
              <a:buNone/>
              <a:tabLst>
                <a:tab algn="l" pos="4137120"/>
                <a:tab algn="l" pos="827388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756840" y="9906120"/>
            <a:ext cx="10427760" cy="981360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indent="0">
              <a:spcBef>
                <a:spcPts val="3626"/>
              </a:spcBef>
              <a:buNone/>
              <a:tabLst>
                <a:tab algn="l" pos="4137120"/>
                <a:tab algn="l" pos="827388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857680" y="20652480"/>
            <a:ext cx="10427760" cy="981360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indent="0">
              <a:spcBef>
                <a:spcPts val="3626"/>
              </a:spcBef>
              <a:buNone/>
              <a:tabLst>
                <a:tab algn="l" pos="4137120"/>
                <a:tab algn="l" pos="827388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3807080" y="20652480"/>
            <a:ext cx="10427760" cy="981360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indent="0">
              <a:spcBef>
                <a:spcPts val="3626"/>
              </a:spcBef>
              <a:buNone/>
              <a:tabLst>
                <a:tab algn="l" pos="4137120"/>
                <a:tab algn="l" pos="827388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756840" y="20652480"/>
            <a:ext cx="10427760" cy="981360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indent="0">
              <a:spcBef>
                <a:spcPts val="3626"/>
              </a:spcBef>
              <a:buNone/>
              <a:tabLst>
                <a:tab algn="l" pos="4137120"/>
                <a:tab algn="l" pos="827388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14EFA-E3EF-4904-A3D0-8D1CB1805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857680" y="3047760"/>
            <a:ext cx="32384880" cy="571500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ctr">
            <a:noAutofit/>
          </a:bodyPr>
          <a:p>
            <a:pPr indent="0" algn="ctr">
              <a:buNone/>
              <a:tabLst>
                <a:tab algn="l" pos="0"/>
                <a:tab algn="l" pos="4137120"/>
                <a:tab algn="l" pos="8273880"/>
              </a:tabLst>
            </a:pPr>
            <a:endParaRPr b="0" lang="en-US" sz="19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857680" y="9906120"/>
            <a:ext cx="32384880" cy="2057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626"/>
              </a:spcBef>
              <a:buNone/>
              <a:tabLst>
                <a:tab algn="l" pos="0"/>
                <a:tab algn="l" pos="4137120"/>
                <a:tab algn="l" pos="827388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85CE7-A71C-4DCA-98F5-5994BDA35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857680" y="3047760"/>
            <a:ext cx="32384880" cy="571500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ctr">
            <a:noAutofit/>
          </a:bodyPr>
          <a:p>
            <a:pPr indent="0" algn="ctr">
              <a:buNone/>
              <a:tabLst>
                <a:tab algn="l" pos="0"/>
                <a:tab algn="l" pos="4137120"/>
                <a:tab algn="l" pos="8273880"/>
              </a:tabLst>
            </a:pPr>
            <a:endParaRPr b="0" lang="en-US" sz="19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857680" y="9906120"/>
            <a:ext cx="32384880" cy="2057400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indent="0">
              <a:spcBef>
                <a:spcPts val="3626"/>
              </a:spcBef>
              <a:buNone/>
              <a:tabLst>
                <a:tab algn="l" pos="4137120"/>
                <a:tab algn="l" pos="827388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C9C82-7534-404F-84BD-A72063694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857680" y="3047760"/>
            <a:ext cx="32384880" cy="571500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ctr">
            <a:noAutofit/>
          </a:bodyPr>
          <a:p>
            <a:pPr indent="0" algn="ctr">
              <a:buNone/>
              <a:tabLst>
                <a:tab algn="l" pos="0"/>
                <a:tab algn="l" pos="4137120"/>
                <a:tab algn="l" pos="8273880"/>
              </a:tabLst>
            </a:pPr>
            <a:endParaRPr b="0" lang="en-US" sz="19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857680" y="9906120"/>
            <a:ext cx="15803640" cy="2057400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indent="0">
              <a:spcBef>
                <a:spcPts val="3626"/>
              </a:spcBef>
              <a:buNone/>
              <a:tabLst>
                <a:tab algn="l" pos="4137120"/>
                <a:tab algn="l" pos="827388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9451880" y="9906120"/>
            <a:ext cx="15803640" cy="2057400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indent="0">
              <a:spcBef>
                <a:spcPts val="3626"/>
              </a:spcBef>
              <a:buNone/>
              <a:tabLst>
                <a:tab algn="l" pos="4137120"/>
                <a:tab algn="l" pos="827388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4D9F1-FD4D-4670-B3C1-90079A4CA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857680" y="3047760"/>
            <a:ext cx="32384880" cy="571500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ctr">
            <a:noAutofit/>
          </a:bodyPr>
          <a:p>
            <a:pPr indent="0" algn="ctr">
              <a:buNone/>
              <a:tabLst>
                <a:tab algn="l" pos="0"/>
                <a:tab algn="l" pos="4137120"/>
                <a:tab algn="l" pos="8273880"/>
              </a:tabLst>
            </a:pPr>
            <a:endParaRPr b="0" lang="en-US" sz="19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5BDAA-3A51-48B5-82CE-BDCCAD15D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857680" y="3047760"/>
            <a:ext cx="32384880" cy="2649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626"/>
              </a:spcBef>
              <a:tabLst>
                <a:tab algn="l" pos="0"/>
                <a:tab algn="l" pos="4137120"/>
                <a:tab algn="l" pos="827388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08525-C840-444B-BEBE-9ABA134A5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857680" y="3047760"/>
            <a:ext cx="32384880" cy="571500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ctr">
            <a:noAutofit/>
          </a:bodyPr>
          <a:p>
            <a:pPr indent="0" algn="ctr">
              <a:buNone/>
              <a:tabLst>
                <a:tab algn="l" pos="0"/>
                <a:tab algn="l" pos="4137120"/>
                <a:tab algn="l" pos="8273880"/>
              </a:tabLst>
            </a:pPr>
            <a:endParaRPr b="0" lang="en-US" sz="19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857680" y="9906120"/>
            <a:ext cx="15803640" cy="981360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indent="0">
              <a:spcBef>
                <a:spcPts val="3626"/>
              </a:spcBef>
              <a:buNone/>
              <a:tabLst>
                <a:tab algn="l" pos="4137120"/>
                <a:tab algn="l" pos="827388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9451880" y="9906120"/>
            <a:ext cx="15803640" cy="2057400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indent="0">
              <a:spcBef>
                <a:spcPts val="3626"/>
              </a:spcBef>
              <a:buNone/>
              <a:tabLst>
                <a:tab algn="l" pos="4137120"/>
                <a:tab algn="l" pos="827388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857680" y="20652480"/>
            <a:ext cx="15803640" cy="981360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indent="0">
              <a:spcBef>
                <a:spcPts val="3626"/>
              </a:spcBef>
              <a:buNone/>
              <a:tabLst>
                <a:tab algn="l" pos="4137120"/>
                <a:tab algn="l" pos="827388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53D07-B2F9-4F80-85F5-21E96BB46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857680" y="3047760"/>
            <a:ext cx="32384880" cy="571500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ctr">
            <a:noAutofit/>
          </a:bodyPr>
          <a:p>
            <a:pPr indent="0" algn="ctr">
              <a:buNone/>
              <a:tabLst>
                <a:tab algn="l" pos="0"/>
                <a:tab algn="l" pos="4137120"/>
                <a:tab algn="l" pos="8273880"/>
              </a:tabLst>
            </a:pPr>
            <a:endParaRPr b="0" lang="en-US" sz="19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857680" y="9906120"/>
            <a:ext cx="15803640" cy="2057400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indent="0">
              <a:spcBef>
                <a:spcPts val="3626"/>
              </a:spcBef>
              <a:buNone/>
              <a:tabLst>
                <a:tab algn="l" pos="4137120"/>
                <a:tab algn="l" pos="827388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9451880" y="9906120"/>
            <a:ext cx="15803640" cy="981360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indent="0">
              <a:spcBef>
                <a:spcPts val="3626"/>
              </a:spcBef>
              <a:buNone/>
              <a:tabLst>
                <a:tab algn="l" pos="4137120"/>
                <a:tab algn="l" pos="827388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9451880" y="20652480"/>
            <a:ext cx="15803640" cy="981360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indent="0">
              <a:spcBef>
                <a:spcPts val="3626"/>
              </a:spcBef>
              <a:buNone/>
              <a:tabLst>
                <a:tab algn="l" pos="4137120"/>
                <a:tab algn="l" pos="827388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4E272-375A-4CF7-A513-D4784D988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857680" y="3047760"/>
            <a:ext cx="32384880" cy="571500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ctr">
            <a:noAutofit/>
          </a:bodyPr>
          <a:p>
            <a:pPr indent="0" algn="ctr">
              <a:buNone/>
              <a:tabLst>
                <a:tab algn="l" pos="0"/>
                <a:tab algn="l" pos="4137120"/>
                <a:tab algn="l" pos="8273880"/>
              </a:tabLst>
            </a:pPr>
            <a:endParaRPr b="0" lang="en-US" sz="19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857680" y="9906120"/>
            <a:ext cx="15803640" cy="981360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indent="0">
              <a:spcBef>
                <a:spcPts val="3626"/>
              </a:spcBef>
              <a:buNone/>
              <a:tabLst>
                <a:tab algn="l" pos="4137120"/>
                <a:tab algn="l" pos="827388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9451880" y="9906120"/>
            <a:ext cx="15803640" cy="981360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indent="0">
              <a:spcBef>
                <a:spcPts val="3626"/>
              </a:spcBef>
              <a:buNone/>
              <a:tabLst>
                <a:tab algn="l" pos="4137120"/>
                <a:tab algn="l" pos="827388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857680" y="20652480"/>
            <a:ext cx="32384880" cy="981360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indent="0">
              <a:spcBef>
                <a:spcPts val="3626"/>
              </a:spcBef>
              <a:buNone/>
              <a:tabLst>
                <a:tab algn="l" pos="4137120"/>
                <a:tab algn="l" pos="827388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56A30-C246-49A7-8345-C2DD5C198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857680" y="3047760"/>
            <a:ext cx="32384880" cy="571500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ctr">
            <a:noAutofit/>
          </a:bodyPr>
          <a:p>
            <a:pPr indent="0" algn="ctr">
              <a:buNone/>
              <a:tabLst>
                <a:tab algn="l" pos="0"/>
                <a:tab algn="l" pos="4137120"/>
                <a:tab algn="l" pos="8273880"/>
              </a:tabLst>
            </a:pPr>
            <a:r>
              <a:rPr b="0" lang="en-US" sz="19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9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857680" y="9906120"/>
            <a:ext cx="32384880" cy="2057400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1550880" indent="-1550880">
              <a:spcBef>
                <a:spcPts val="3626"/>
              </a:spcBef>
              <a:buClr>
                <a:srgbClr val="000000"/>
              </a:buClr>
              <a:buFont typeface="Times New Roman"/>
              <a:buChar char="•"/>
              <a:tabLst>
                <a:tab algn="l" pos="4137120"/>
                <a:tab algn="l" pos="8273880"/>
              </a:tabLst>
            </a:pPr>
            <a:r>
              <a:rPr b="0" lang="en-US" sz="145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  <a:p>
            <a:pPr lvl="1" marL="3360600" indent="-1292040">
              <a:spcBef>
                <a:spcPts val="3626"/>
              </a:spcBef>
              <a:buClr>
                <a:srgbClr val="000000"/>
              </a:buClr>
              <a:buFont typeface="Times New Roman"/>
              <a:buChar char="–"/>
              <a:tabLst>
                <a:tab algn="l" pos="4137120"/>
                <a:tab algn="l" pos="8273880"/>
              </a:tabLst>
            </a:pPr>
            <a:r>
              <a:rPr b="0" lang="en-US" sz="145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  <a:p>
            <a:pPr lvl="2" marL="5170320" indent="-1033200">
              <a:spcBef>
                <a:spcPts val="3626"/>
              </a:spcBef>
              <a:buClr>
                <a:srgbClr val="000000"/>
              </a:buClr>
              <a:buFont typeface="Times New Roman"/>
              <a:buChar char="•"/>
              <a:tabLst>
                <a:tab algn="l" pos="4137120"/>
                <a:tab algn="l" pos="8273880"/>
              </a:tabLst>
            </a:pPr>
            <a:r>
              <a:rPr b="0" lang="en-US" sz="145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  <a:p>
            <a:pPr lvl="3" marL="7238880" indent="-1033200">
              <a:spcBef>
                <a:spcPts val="3626"/>
              </a:spcBef>
              <a:buClr>
                <a:srgbClr val="000000"/>
              </a:buClr>
              <a:buFont typeface="Times New Roman"/>
              <a:buChar char="–"/>
              <a:tabLst>
                <a:tab algn="l" pos="4137120"/>
                <a:tab algn="l" pos="8273880"/>
              </a:tabLst>
            </a:pPr>
            <a:r>
              <a:rPr b="0" lang="en-US" sz="145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  <a:p>
            <a:pPr lvl="4" marL="9307440" indent="-1035000">
              <a:spcBef>
                <a:spcPts val="3626"/>
              </a:spcBef>
              <a:buClr>
                <a:srgbClr val="000000"/>
              </a:buClr>
              <a:buFont typeface="Times New Roman"/>
              <a:buChar char="»"/>
              <a:tabLst>
                <a:tab algn="l" pos="4137120"/>
                <a:tab algn="l" pos="8273880"/>
              </a:tabLst>
            </a:pPr>
            <a:r>
              <a:rPr b="0" lang="en-US" sz="145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  <a:p>
            <a:pPr lvl="5" marL="9307440" indent="-1035000">
              <a:spcBef>
                <a:spcPts val="3626"/>
              </a:spcBef>
              <a:buClr>
                <a:srgbClr val="000000"/>
              </a:buClr>
              <a:buFont typeface="Times New Roman"/>
              <a:buChar char="»"/>
              <a:tabLst>
                <a:tab algn="l" pos="4137120"/>
                <a:tab algn="l" pos="8273880"/>
              </a:tabLst>
            </a:pPr>
            <a:r>
              <a:rPr b="0" lang="en-US" sz="145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  <a:p>
            <a:pPr lvl="6" marL="9307440" indent="-1035000">
              <a:spcBef>
                <a:spcPts val="3626"/>
              </a:spcBef>
              <a:buClr>
                <a:srgbClr val="000000"/>
              </a:buClr>
              <a:buFont typeface="Times New Roman"/>
              <a:buChar char="»"/>
              <a:tabLst>
                <a:tab algn="l" pos="4137120"/>
                <a:tab algn="l" pos="8273880"/>
              </a:tabLst>
            </a:pPr>
            <a:r>
              <a:rPr b="0" lang="en-US" sz="145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857680" y="31241880"/>
            <a:ext cx="7937280" cy="228600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Autofit/>
          </a:bodyPr>
          <a:lstStyle>
            <a:lvl1pPr indent="0">
              <a:buNone/>
              <a:tabLst>
                <a:tab algn="l" pos="0"/>
                <a:tab algn="l" pos="4137120"/>
                <a:tab algn="l" pos="8273880"/>
              </a:tabLst>
              <a:defRPr b="0" lang="en-US" sz="6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137120"/>
                <a:tab algn="l" pos="8273880"/>
              </a:tabLst>
            </a:pPr>
            <a:r>
              <a:rPr b="0" lang="en-US" sz="6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6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3017600" y="31241880"/>
            <a:ext cx="12065040" cy="228600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Autofit/>
          </a:bodyPr>
          <a:lstStyle>
            <a:lvl1pPr indent="0" algn="ctr">
              <a:buNone/>
              <a:tabLst>
                <a:tab algn="l" pos="0"/>
                <a:tab algn="l" pos="4137120"/>
                <a:tab algn="l" pos="8273880"/>
              </a:tabLst>
              <a:defRPr b="0" lang="en-US" sz="6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137120"/>
                <a:tab algn="l" pos="8273880"/>
              </a:tabLst>
            </a:pPr>
            <a:r>
              <a:rPr b="0" lang="en-US" sz="6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6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7304560" y="31241880"/>
            <a:ext cx="7937640" cy="228600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Autofit/>
          </a:bodyPr>
          <a:lstStyle>
            <a:lvl1pPr indent="0" algn="r">
              <a:buNone/>
              <a:tabLst>
                <a:tab algn="l" pos="0"/>
                <a:tab algn="l" pos="4137120"/>
                <a:tab algn="l" pos="8273880"/>
              </a:tabLst>
              <a:defRPr b="0" lang="en-US" sz="6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137120"/>
                <a:tab algn="l" pos="8273880"/>
              </a:tabLst>
            </a:pPr>
            <a:fld id="{013201B2-7944-4ABF-A603-C08A28DC66B3}" type="slidenum">
              <a:rPr b="0" lang="en-US" sz="6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6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7.png"/><Relationship Id="rId15" Type="http://schemas.openxmlformats.org/officeDocument/2006/relationships/image" Target="../media/image8.png"/><Relationship Id="rId16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991720" y="2209320"/>
            <a:ext cx="29108160" cy="487692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3178080"/>
                <a:tab algn="l" pos="6356520"/>
                <a:tab algn="l" pos="9534600"/>
              </a:tabLst>
            </a:pPr>
            <a:r>
              <a:rPr b="1" lang="pt-BR" sz="6000" spc="-1" strike="noStrike">
                <a:solidFill>
                  <a:srgbClr val="003366"/>
                </a:solidFill>
                <a:latin typeface="Graphite Light Narrow"/>
              </a:rPr>
              <a:t>ANÁLISE DA INFLUÊNCIA DE TENSÕES INTERNAS NA POROSIDADE DE FILMES ELETRODEPOSITADOS POR      </a:t>
            </a:r>
            <a:r>
              <a:rPr b="1" lang="pt-BR" sz="6000" spc="-1" strike="noStrike">
                <a:solidFill>
                  <a:srgbClr val="003366"/>
                </a:solidFill>
                <a:latin typeface="Graphite Light Narrow"/>
              </a:rPr>
              <a:t>	</a:t>
            </a:r>
            <a:r>
              <a:rPr b="1" lang="pt-BR" sz="6000" spc="-1" strike="noStrike">
                <a:solidFill>
                  <a:srgbClr val="003366"/>
                </a:solidFill>
                <a:latin typeface="Graphite Light Narrow"/>
              </a:rPr>
              <a:t>         DISSOLUÇÃO ANÓDICA VOLTAMÉTRICA  -  SISTEMA COBRE/NÍQUEL.</a:t>
            </a:r>
            <a:br>
              <a:rPr sz="6000"/>
            </a:br>
            <a:br>
              <a:rPr sz="6000"/>
            </a:br>
            <a:r>
              <a:rPr b="1" lang="pt-BR" sz="6000" spc="-1" strike="noStrike">
                <a:solidFill>
                  <a:srgbClr val="003366"/>
                </a:solidFill>
                <a:latin typeface="Graphite Light Narrow"/>
              </a:rPr>
              <a:t>	</a:t>
            </a:r>
            <a:r>
              <a:rPr b="1" lang="pt-BR" sz="6000" spc="-1" strike="noStrike">
                <a:solidFill>
                  <a:srgbClr val="003366"/>
                </a:solidFill>
                <a:latin typeface="Graphite Light Narrow"/>
              </a:rPr>
              <a:t>	</a:t>
            </a:r>
            <a:r>
              <a:rPr b="1" lang="pt-BR" sz="6000" spc="-1" strike="noStrike">
                <a:solidFill>
                  <a:srgbClr val="003366"/>
                </a:solidFill>
                <a:latin typeface="Graphite Light Narrow"/>
              </a:rPr>
              <a:t>     </a:t>
            </a:r>
            <a:r>
              <a:rPr b="1" lang="pt-BR" sz="4000" spc="-1" strike="noStrike">
                <a:solidFill>
                  <a:srgbClr val="003366"/>
                </a:solidFill>
                <a:latin typeface="Arial"/>
              </a:rPr>
              <a:t>Ana Carolina Tedeschi Gomes</a:t>
            </a:r>
            <a:br>
              <a:rPr sz="4000"/>
            </a:br>
            <a:r>
              <a:rPr b="1" lang="pt-BR" sz="4000" spc="-1" strike="noStrike">
                <a:solidFill>
                  <a:srgbClr val="003366"/>
                </a:solidFill>
                <a:latin typeface="Arial"/>
              </a:rPr>
              <a:t>                                         Orientador:  Dr. Haroldo de Araújo Ponte </a:t>
            </a:r>
            <a:br>
              <a:rPr sz="4000"/>
            </a:br>
            <a:r>
              <a:rPr b="1" lang="pt-BR" sz="4000" spc="-1" strike="noStrike">
                <a:solidFill>
                  <a:srgbClr val="003366"/>
                </a:solidFill>
                <a:latin typeface="Arial"/>
              </a:rPr>
              <a:t>                                            Departamento de Tecnologia Química</a:t>
            </a:r>
            <a:br>
              <a:rPr sz="4000"/>
            </a:br>
            <a:r>
              <a:rPr b="1" lang="pt-BR" sz="4000" spc="-1" strike="noStrike">
                <a:solidFill>
                  <a:srgbClr val="003366"/>
                </a:solidFill>
                <a:latin typeface="Arial"/>
              </a:rPr>
              <a:t>                                                        Setor de Tecnologi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895480" y="7467480"/>
            <a:ext cx="15875280" cy="18745200"/>
          </a:xfrm>
          <a:prstGeom prst="rect">
            <a:avLst/>
          </a:prstGeom>
          <a:noFill/>
          <a:ln w="0">
            <a:noFill/>
          </a:ln>
        </p:spPr>
        <p:txBody>
          <a:bodyPr lIns="413640" rIns="413640" tIns="207000" bIns="207000" anchor="t">
            <a:normAutofit/>
          </a:bodyPr>
          <a:p>
            <a:pPr marL="32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r>
              <a:rPr b="1" lang="pt-BR" sz="3200" spc="-1" strike="noStrike" u="sng">
                <a:solidFill>
                  <a:srgbClr val="003366"/>
                </a:solidFill>
                <a:uFillTx/>
                <a:latin typeface="Arial"/>
              </a:rPr>
              <a:t>Introduçã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Um metal eletrodepositado normalmente está submetido a forças de tração ou de compressão. Isto ocorre devido ao desajuste entre os parâmetros de rede da estrutura do material eletrodepositado em relação ao do substrato. O dimensionamento do valor desta força tem apresentado considerável interesse industrialmente uma vez que esta pode causar o surgimento de trincas com conseqüências negativas para as propriedades do revestimento produzi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Em eletrodepósitos muito finos, estas tensões de compressão e tração causam a ruptura dos revestimentos na forma de trincas que podem ser consideradas como poros passantes. Estes poros podem ser quantificados através da utilização de técnicas eletroquímicas. Devido à relação entre as tensões e a porosidade conseqüente, tem se tornado possível uma correlação entre estes parâmetros [1, 2]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O objetivo desta pesquisa é diferenciar a possível influência dos poros e das trincas na descontinuidade do depósi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r>
              <a:rPr b="1" lang="pt-BR" sz="3200" spc="-1" strike="noStrike" u="sng">
                <a:solidFill>
                  <a:srgbClr val="003366"/>
                </a:solidFill>
                <a:uFillTx/>
                <a:latin typeface="Arial"/>
              </a:rPr>
              <a:t>Experiment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40" indent="-3240" algn="just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Font typeface="Symbol" charset="2"/>
              <a:buChar char=""/>
              <a:tabLst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Sistema analisado: Cu/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40" indent="-3240" algn="just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Font typeface="Symbol" charset="2"/>
              <a:buChar char=""/>
              <a:tabLst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Área do eletrodo de cobre: 0,156 cm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40" indent="-3240" algn="just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Font typeface="Symbol" charset="2"/>
              <a:buChar char=""/>
              <a:tabLst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Área do eletrodo de níquel: 0,226 cm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40" indent="-3240" algn="just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Font typeface="Symbol" charset="2"/>
              <a:buChar char=""/>
              <a:tabLst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Banho para deposição: Banho Watts sem adi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NiSO</a:t>
            </a:r>
            <a:r>
              <a:rPr b="0" lang="pt-BR" sz="2400" spc="-1" strike="noStrike" baseline="-25000">
                <a:solidFill>
                  <a:srgbClr val="003366"/>
                </a:solidFill>
                <a:latin typeface="Arial"/>
              </a:rPr>
              <a:t>4</a:t>
            </a: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 . 6H</a:t>
            </a:r>
            <a:r>
              <a:rPr b="0" lang="pt-BR" sz="2400" spc="-1" strike="noStrike" baseline="-25000">
                <a:solidFill>
                  <a:srgbClr val="003366"/>
                </a:solidFill>
                <a:latin typeface="Arial"/>
              </a:rPr>
              <a:t>2</a:t>
            </a: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O</a:t>
            </a: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240 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NiCl</a:t>
            </a:r>
            <a:r>
              <a:rPr b="0" lang="pt-BR" sz="2400" spc="-1" strike="noStrike" baseline="-25000">
                <a:solidFill>
                  <a:srgbClr val="003366"/>
                </a:solidFill>
                <a:latin typeface="Arial"/>
              </a:rPr>
              <a:t>2</a:t>
            </a: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 . 6H</a:t>
            </a:r>
            <a:r>
              <a:rPr b="0" lang="pt-BR" sz="2400" spc="-1" strike="noStrike" baseline="-25000">
                <a:solidFill>
                  <a:srgbClr val="003366"/>
                </a:solidFill>
                <a:latin typeface="Arial"/>
              </a:rPr>
              <a:t>2</a:t>
            </a: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O</a:t>
            </a: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45 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H</a:t>
            </a:r>
            <a:r>
              <a:rPr b="0" lang="pt-BR" sz="2400" spc="-1" strike="noStrike" baseline="-25000">
                <a:solidFill>
                  <a:srgbClr val="003366"/>
                </a:solidFill>
                <a:latin typeface="Arial"/>
              </a:rPr>
              <a:t>3</a:t>
            </a: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BO</a:t>
            </a:r>
            <a:r>
              <a:rPr b="0" lang="pt-BR" sz="2400" spc="-1" strike="noStrike" baseline="-25000">
                <a:solidFill>
                  <a:srgbClr val="003366"/>
                </a:solidFill>
                <a:latin typeface="Arial"/>
              </a:rPr>
              <a:t>3</a:t>
            </a: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 . 6H</a:t>
            </a:r>
            <a:r>
              <a:rPr b="0" lang="pt-BR" sz="2400" spc="-1" strike="noStrike" baseline="-25000">
                <a:solidFill>
                  <a:srgbClr val="003366"/>
                </a:solidFill>
                <a:latin typeface="Arial"/>
              </a:rPr>
              <a:t>2</a:t>
            </a: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O</a:t>
            </a: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30 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40" indent="-3240" algn="just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Font typeface="Symbol" charset="2"/>
              <a:buChar char=""/>
              <a:tabLst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Solução de passivação: Na</a:t>
            </a:r>
            <a:r>
              <a:rPr b="0" lang="pt-BR" sz="2400" spc="-1" strike="noStrike" baseline="-25000">
                <a:solidFill>
                  <a:srgbClr val="003366"/>
                </a:solidFill>
                <a:latin typeface="Arial"/>
              </a:rPr>
              <a:t>2</a:t>
            </a: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SO</a:t>
            </a:r>
            <a:r>
              <a:rPr b="0" lang="pt-BR" sz="2400" spc="-1" strike="noStrike" baseline="-25000">
                <a:solidFill>
                  <a:srgbClr val="003366"/>
                </a:solidFill>
                <a:latin typeface="Arial"/>
              </a:rPr>
              <a:t>4</a:t>
            </a: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   50 g/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40" indent="-3240" algn="just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Font typeface="Symbol" charset="2"/>
              <a:buChar char=""/>
              <a:tabLst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Técnica de deposição: Galvanostátic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40" indent="-3240" algn="just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Font typeface="Symbol" charset="2"/>
              <a:buChar char=""/>
              <a:tabLst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Aparelhagem: Potenciostato/galvanostato PAR 273 A e seu respectivo software M27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r>
              <a:rPr b="1" lang="pt-BR" sz="3200" spc="-1" strike="noStrike" u="sng">
                <a:solidFill>
                  <a:srgbClr val="003366"/>
                </a:solidFill>
                <a:uFillTx/>
                <a:latin typeface="Arial"/>
              </a:rPr>
              <a:t>Técnica de Análi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O depósito de níquel sobre o eletrodo de cobre foi realizado no modo galvanostático do equipamento PAR 270 em três densidades de corrente diferentes (1, 3, 6 A/dm2) e 5 tempos distintos (10, 20, 30, 40, 50 s). Cada sistema Cu/Ni sofreu uma dissolução, no modo potenciodinâmico, fornecendo um gráfico de densidade de corrente, i, versus potencial, E. Para a análise das descontinuidades do revestimento, integrou-se esta curva obtendo-se a densidade de carga, q, necessária para passivação. A porosidade do depósito é então adquirida pela rela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Symbol"/>
                <a:ea typeface="Symbol"/>
              </a:rPr>
              <a:t></a:t>
            </a: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= (q/q</a:t>
            </a:r>
            <a:r>
              <a:rPr b="0" lang="pt-BR" sz="2400" spc="-1" strike="noStrike" baseline="-25000">
                <a:solidFill>
                  <a:srgbClr val="003366"/>
                </a:solidFill>
                <a:latin typeface="Arial"/>
              </a:rPr>
              <a:t>0</a:t>
            </a: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)*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onde q</a:t>
            </a:r>
            <a:r>
              <a:rPr b="0" lang="pt-BR" sz="2400" spc="-1" strike="noStrike" baseline="-25000">
                <a:solidFill>
                  <a:srgbClr val="003366"/>
                </a:solidFill>
                <a:latin typeface="Arial"/>
              </a:rPr>
              <a:t>0</a:t>
            </a: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 é a densidade de carga necessária para passivar o eletrodo de cobre sem revestimen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191120" y="28422720"/>
          <a:ext cx="4584600" cy="3595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1120" y="28422720"/>
                    <a:ext cx="4584600" cy="359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"/>
          <p:cNvSpPr/>
          <p:nvPr/>
        </p:nvSpPr>
        <p:spPr>
          <a:xfrm>
            <a:off x="3200400" y="26276400"/>
            <a:ext cx="16078320" cy="22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 u="sng">
                <a:solidFill>
                  <a:srgbClr val="003366"/>
                </a:solidFill>
                <a:uFillTx/>
                <a:latin typeface="Arial"/>
              </a:rPr>
              <a:t>Result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Passivação dos eletrodos de cobre e de níque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0062720" y="29337120"/>
            <a:ext cx="5380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Integração da curva passivação do C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i = 1 --&gt; 22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x = -0,6 --&gt; -0,1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área (q) = 378,07179</a:t>
            </a:r>
            <a:r>
              <a:rPr b="0" lang="pt-BR" sz="2400" spc="-1" strike="noStrike">
                <a:solidFill>
                  <a:srgbClr val="000000"/>
                </a:solidFill>
                <a:latin typeface="Fixedsys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Fixedsy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29641680" y="7053120"/>
          <a:ext cx="4577040" cy="3767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641680" y="7053120"/>
                    <a:ext cx="4577040" cy="376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"/>
          <p:cNvSpPr/>
          <p:nvPr/>
        </p:nvSpPr>
        <p:spPr>
          <a:xfrm>
            <a:off x="21857400" y="8124840"/>
            <a:ext cx="6764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Fixedsys"/>
              </a:rPr>
              <a:t>Integração da curva </a:t>
            </a:r>
            <a:r>
              <a:rPr b="0" i="1" lang="pt-BR" sz="2400" spc="-1" strike="noStrike">
                <a:solidFill>
                  <a:srgbClr val="003366"/>
                </a:solidFill>
                <a:latin typeface="Fixedsys"/>
              </a:rPr>
              <a:t>passivação do 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Fixedsys"/>
              </a:rPr>
              <a:t>i = 1 --&gt; 4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Fixedsys"/>
              </a:rPr>
              <a:t>x = -0,6 --&gt; -0,15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Fixedsys"/>
              </a:rPr>
              <a:t>área (</a:t>
            </a:r>
            <a:r>
              <a:rPr b="0" i="1" lang="pt-BR" sz="2400" spc="-1" strike="noStrike">
                <a:solidFill>
                  <a:srgbClr val="003366"/>
                </a:solidFill>
                <a:latin typeface="Fixedsys"/>
              </a:rPr>
              <a:t>q</a:t>
            </a:r>
            <a:r>
              <a:rPr b="0" lang="pt-BR" sz="2400" spc="-1" strike="noStrike">
                <a:solidFill>
                  <a:srgbClr val="003366"/>
                </a:solidFill>
                <a:latin typeface="Fixedsys"/>
              </a:rPr>
              <a:t>) = 4,73045</a:t>
            </a:r>
            <a:r>
              <a:rPr b="0" lang="pt-BR" sz="2400" spc="-1" strike="noStrike">
                <a:solidFill>
                  <a:srgbClr val="003366"/>
                </a:solidFill>
                <a:latin typeface="Fixedsy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039200" y="11201400"/>
            <a:ext cx="592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Voltametrias nas condições especificad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321720" y="12039480"/>
          <a:ext cx="4662360" cy="3802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1321720" y="12039480"/>
                    <a:ext cx="4662360" cy="380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26227080" y="12039480"/>
          <a:ext cx="5014800" cy="38577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6227080" y="12039480"/>
                    <a:ext cx="5014800" cy="385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31256280" y="12273120"/>
          <a:ext cx="5014800" cy="36525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1256280" y="12273120"/>
                    <a:ext cx="5014800" cy="365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/>
          <p:nvPr/>
        </p:nvSpPr>
        <p:spPr>
          <a:xfrm>
            <a:off x="23072760" y="29606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1912840" y="16535520"/>
            <a:ext cx="12291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nfluência do tempo de depósito e da densidade de carga na porosidade do revestimen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22291560" y="17602200"/>
          <a:ext cx="4606920" cy="38527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2291560" y="17602200"/>
                    <a:ext cx="4606920" cy="385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"/>
          <p:cNvSpPr/>
          <p:nvPr/>
        </p:nvSpPr>
        <p:spPr>
          <a:xfrm>
            <a:off x="20650320" y="21945600"/>
            <a:ext cx="14859000" cy="10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 u="sng">
                <a:solidFill>
                  <a:srgbClr val="003366"/>
                </a:solidFill>
                <a:uFillTx/>
                <a:latin typeface="Arial"/>
              </a:rPr>
              <a:t>Conclusã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606680" indent="-752760" algn="just">
              <a:lnSpc>
                <a:spcPct val="100000"/>
              </a:lnSpc>
              <a:buClr>
                <a:srgbClr val="003366"/>
              </a:buClr>
              <a:buFont typeface="CommercialPi BT" charset="2"/>
              <a:buChar char="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Quando aplica-se uma densidade de carga abaixo de 1200 mC/cm</a:t>
            </a:r>
            <a:r>
              <a:rPr b="0" lang="pt-BR" sz="2400" spc="-1" strike="noStrike" baseline="30000">
                <a:solidFill>
                  <a:srgbClr val="003366"/>
                </a:solidFill>
                <a:latin typeface="Arial"/>
              </a:rPr>
              <a:t>2</a:t>
            </a: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, a porosidade é provavelmente proveniente das irregularidades da deposição, como a rugosidade do substrato, a oclusão da solução de depósito e a má distribuição dos núcleos, e decresce com o aumento de </a:t>
            </a:r>
            <a:r>
              <a:rPr b="0" i="1" lang="pt-BR" sz="2400" spc="-1" strike="noStrike">
                <a:solidFill>
                  <a:srgbClr val="003366"/>
                </a:solidFill>
                <a:latin typeface="Arial"/>
              </a:rPr>
              <a:t>q</a:t>
            </a: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606680" indent="-752760" algn="just">
              <a:lnSpc>
                <a:spcPct val="100000"/>
              </a:lnSpc>
              <a:buClr>
                <a:srgbClr val="003366"/>
              </a:buClr>
              <a:buFont typeface="CommercialPi BT" charset="2"/>
              <a:buChar char="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Acima de 1200 mC/cm2, a descontinuidade é possivelmente formada por trincas, devido às tensões    internas, e cresce com o aumento de q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CommercialPi BT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 u="sng">
                <a:solidFill>
                  <a:srgbClr val="003366"/>
                </a:solidFill>
                <a:uFillTx/>
                <a:latin typeface="Arial"/>
              </a:rPr>
              <a:t>Bibliograf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606680" indent="-75276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[1]</a:t>
            </a: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H A PONTE, A M MAUL, Análise por técnica eletroquímica as porosidade de revestimento sobre superfícies metálicas. In: XV CONGRESSO BRASILEIRO DE ENGENHARIA MECÂNICA, 1999, Águas de Lindó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606680" indent="-75276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606680" indent="-75276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[2]</a:t>
            </a: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H A PONTE, A M MAUL, Controle da porosidade de eletrodepósitos de níquel sobre cobre por técnica de dissolução anódica voltamétrica. In: CONGRESSO BRASILEIRO DE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ENGENHARIA E CIÊNCIA DOS MATERIAS - 13 CEBCIMAT, 1998, Curitib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606680" indent="-7527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606680" indent="-7527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 u="sng">
                <a:solidFill>
                  <a:srgbClr val="003366"/>
                </a:solidFill>
                <a:uFillTx/>
                <a:latin typeface="Arial"/>
              </a:rPr>
              <a:t>Agradecimen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Os autores agradecem ao apoio do CNPq, através da concessão de bolsa de iniciação científica, e aos Departamentos de Física, Química e Tecnologia Química da Universidade Federal do Paraná, os quais disponibilizaram os equipamentos necessários para a execução do projeto e aos integrantes do Grupo de Eletroquímica Aplicada – GEA, desta mesma universidade, pelo apoio e fornecimento de informações.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606680" indent="-7527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29716560" y="17678520"/>
          <a:ext cx="4592520" cy="39560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9716560" y="17678520"/>
                    <a:ext cx="4592520" cy="395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4" name="LogoUfprazul" descr=""/>
          <p:cNvPicPr/>
          <p:nvPr/>
        </p:nvPicPr>
        <p:blipFill>
          <a:blip r:embed="rId15"/>
          <a:stretch/>
        </p:blipFill>
        <p:spPr>
          <a:xfrm>
            <a:off x="2286000" y="1371600"/>
            <a:ext cx="6400800" cy="36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06T21:37:18Z</dcterms:created>
  <dc:creator>Ana</dc:creator>
  <dc:description/>
  <dc:language>en-US</dc:language>
  <cp:lastModifiedBy>Ana</cp:lastModifiedBy>
  <cp:lastPrinted>2000-10-06T23:01:42Z</cp:lastPrinted>
  <dcterms:modified xsi:type="dcterms:W3CDTF">2000-10-11T00:31:14Z</dcterms:modified>
  <cp:revision>42</cp:revision>
  <dc:subject/>
  <dc:title>Slide sem título </dc:title>
</cp:coreProperties>
</file>